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3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D52D-C71B-4DFF-B6A2-25D65C199A2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Стандартизация в различных сф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Сущ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тандартизация в различных сф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 Сущ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1. Международная и региональ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1. Международная и региональ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происхождении аббревиатуры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 функционирует с 1947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происхождении аббревиатуры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 функционирует с 1947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ка Международной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ка Международной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в рамках 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комитет по работе «Системы обеспечения качества» создан в 1979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ий комитет по работе «Системы обеспечения качества» создан в 1979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ИСО серии 9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ИСО серии 9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вопросам потребителей (КОПОЛ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задачи комитета по вопросам потребителей (КОПОЛКО) вхо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вопросам потребителей (КОПОЛ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дачи комитета по вопросам потребителей (КОПОЛКО) входи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результаты деятельности КОПОЛ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2 «Сравнительные испытания продовольствен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 4 «Информация о товарах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которые результаты деятельности КОПОЛ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2 «Сравнительные испытания продовольствен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 4 «Информация о товарах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онный комитет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деятельностью информационной сети ИСО (ИСО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 деятельности членов организации в области информационных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й комитет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и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деятельностью информационной сети ИСО (ИСОН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ординация деятельности членов организации в области информационных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2. Стандартизация в рамк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2. Стандартизация в рамк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здание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Был создан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здание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ая программа устранения технических барьеров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ая программа устранения технических барьеров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ая книга Евро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стандарты должны отражать новейшие достижения техники и техн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леная книга Евро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стандарты должны отражать новейшие достижения техники и техн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ая база стандартизации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я Совета имеют прямое действие для стран-членов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ая база стандартизации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ления Совета имеют прямое действие для стран-членов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ировка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отвечающая требованиям директивы (обязательным) маркируется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 СЕ - не для потребителя, а для контролирующих и таможенных органов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ировка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 СЕ - не для потребителя, а для контролирующих и таможенных органов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лучшему планированию и производству запасных частей для новой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ствует  лучшему планированию и производству запасных частей для новой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на пищевые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ые директивы - на конкретные виды - сосиски, суфле, дж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на пищевые продук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тикальные директивы - на конкретные виды - сосиски, суфле, дж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итика СЕН и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 международные стандарты ИСО и МЭК в качестве регион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у евростандартов закладывают лучшие стандарты отдельных европейски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итика СЕН и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ьзовать международные стандарты ИСО и МЭК в качестве региональны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3. Гармонизац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услуг являются: сфера действия, 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 лич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3. Гармонизац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 лич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 разделяются по степ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ия техники и механизм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енства персонала (профессионал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 разделяются по степе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ействования техники и механизм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енства персонала (профессионализ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е Евро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е Евро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рамк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странах-член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рамк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странах-член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шение по техническим барьерам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 (уведомление) и транспарентность (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глашение по техническим барьерам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 (уведомление) и транспарентность ( прозрач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арент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арент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но-конструкторские работы по созданию опытного образц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ая подготовка промышленного производств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е производство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завода (отрас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одного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региональной группы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ировом масшта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но-конструкторские работы по созданию опытного образц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ая подготовка промышленного производств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ышленное производство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е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завода (отрас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одного государ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региональной группы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мировом масштаб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реализуется ПКС "Безопасность в чрезвычайны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реализуется ПКС "Безопасность в чрезвычайных ситуац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омплекс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омплекс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е опережа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ассортименту (типам),видам, маркам (сортам), типоразмера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изнакам, свойствам и функция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еемственности (взаимоувязке) элементов конструкций старых и новых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оличественному значению показателей признаков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е опережа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ассортименту (типам),видам, маркам (сортам), типоразмера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изнакам, свойствам и функция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еемственности (взаимоувязке) элементов конструкций старых и новых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оличественному значению показателей признаков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перспективных планах развития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долгосрочном и краткосрочном научном прогноз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новейших открытий в стране и за рубеж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е использование патент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замечаний и рекламаций на базовую мо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перспективных планах развития стра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долгосрочном и краткосрочном научном прогнозиров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новейших открытий в стране и за рубеж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ирокое использование патентной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замечаний и рекламаций на базовую мод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по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у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опасность продукции процессов и услуг для жизни, здоровья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ность имущества и другие общетехнические требования (ГОСТ Р 1.0-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поним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храну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опасность продукции процессов и услуг для жизни, здоровья люд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ность имущества и другие общетехнические требования (ГОСТ Р 1.0-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рганизационно-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рганизационно-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 для различных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построению. Изложению и содержанию различных видов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 для различных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построению. Изложению и содержанию различных видов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ая баз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ы предпочтительных чисел должны удовлетворять следующим треб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бесконечными в направлениях уменьшения и увеличения чис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ючать все последовательные десятикратные и дробные значения каждого числа ря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простыми и легко запоминающими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ая баз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яды предпочтительных чисел должны удовлетворять следующим требования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бесконечными в направлениях уменьшения и увеличения чисе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простыми и легко запоминающими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вое поле  НТД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правила обеспечения качества продукции, работ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хранения и рационального использования всех видов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мины и их опреде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вое поле  НТД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ие правила обеспечения качества продукции, работ 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охранения и рационального использования всех видов ресурс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ины и их определе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уктурная схема ГСС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уктурная схема ГСС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по управлению 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по управлению и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социальной сф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Безопасность в чрезвычайных ситуациях» (ГОСТ Р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Система стандартов безопасности труда»(ГОСТ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плекс стандартов по охране природы (ГОСТ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социальной сф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Безопасность в чрезвычайных ситуациях» (ГОСТ Р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Система стандартов безопасности труда»(ГОСТ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комплекс стандартов по охране природы (ГОСТ  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ис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охранитель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нковск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хгалтерский у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о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ставлени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можен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ргов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еэкономическ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тис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охранитель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нковск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хгалтерский уч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о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оставлени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можен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ор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ргов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шнеэкономическ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3. Применение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3. Применение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применения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на стандарты в технической,  коммерческой  и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применения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сылки на стандарты в технической,  коммерческой  и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ГОСТ Р и ГОС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ГОСТ Р и ГОС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едприя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оздаваемую на данном предприятии продукцию, услуги и производственные процес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едприя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создаваемую на данном предприятии продукцию, услуги и производственные процес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стандартизации</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яется 4 этапа механизм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Times New Roman"/>
              </a:rPr>
              <a:t>Механизм стандартизации</a:t>
            </a: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ется 4 этапа механизм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технических общ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технических обще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вых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вых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НТД лицами других госуд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НТД лицами других государ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ТД покупателями и поставщ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ТД покупателями и поставщик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применения НТД при вы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применения НТД при вы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и в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и в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зарубежны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зарубежных стра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зарубежных стандартов до их принятия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зарубежных стандартов до их принятия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рименения МС и стандартов других стран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ианты применения МС и стандартов других стран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бор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ует определенная совокупность объектов и действий с ними: А;Б;В;Г;Д;Ж;И;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ествует определенная совокупность объектов и действий с ними: А;Б;В;Г;Д;Ж;И;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с дополнениями» применени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 обозначением ГОСТ Р в скобках приводится обозначение МС, наприм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Т Р 50231-92(ИСО 7173-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с дополнениями» применени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обозначением ГОСТ Р в скобках приводится обозначение МС, наприм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Т Р 50231-92(ИСО 7173-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ОСТ, СТП, СТО на основе международных документов до принятия их в качеств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ОСТ, СТП, СТО на основе международных документов до принятия их в качеств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4. Стандартизация в области эк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4. Стандартизация в области эк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дирование информации о това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5. Кодирование информации о това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базируется на общенаучных и специфических методах.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основным методам стандартизации относя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и 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систематизация, селек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типизация, оптим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ация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целевой 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тевое план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базируется на общенаучных и специфических методах.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основным методам стандартизации относя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и 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систематизация, селек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типизация, оптим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ация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целевой мето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тевое план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 - совокупность методов и правил классификации и ее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 - совокупность методов и правил классификации и ее результат.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0-2000 "Порядок разработки общероссийских классиф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0-2000 "Порядок разработки общероссийских классификато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и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одирования: последовательный; параллельный; порядковый; серийно-порядков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и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одирования: последовательный; параллельный; порядковый; серийно-порядков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классификации - эле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ого мно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убина классификации - число ступеней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фавит кода - систе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ов, принятых для образования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ие кода - число знаков с алфавите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онятия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 классификации - элеме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ого множ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убина классификации - число ступеней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 кода - систе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ов, принятых для образования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ание кода - число знаков с алфавите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и параллельный методы кодир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и параллельный методы кодир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эта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рование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имер, объекта 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документа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формление реквизи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фор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содержание … n, месторасположение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докумен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уче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использованию … n, к хран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этап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делирование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апример, объекта 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документа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формление реквизи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фор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содержание … n, месторасположение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докумен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че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использованию … n, к хран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и серийно-порядковый методы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и серийно-порядковый методы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ризнакам классификационных группировок относи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социально-экономическ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и общедоступ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матизирова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ческое и организационн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ость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имость с другими классификато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с международными классификаторами и 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и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признакам классификационных группировок относи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социально-экономическ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крытость и общедоступ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втоматизирова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ическое и организационн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язательность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местимость с другими классификато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с международными классификаторами и 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являю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йствия, потребитель (общество, население, организация, 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личный, семей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являю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йствия, потребитель (общество, население, организация, 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личный, семей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 кодового обозначения в ОКП продукции 54 кла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ласс)- продукция целлюлозно-бумажной промышл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подкласс) - тетради школьные, обои и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группа) -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 (подгруппа) - тетради и дневники шко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вид) - тетради для письма карандаш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р кодового обозначения в ОКП продукции 54 кла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 (класс)- продукция целлюлозно-бумажной промышл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подкласс) - тетради школьные, обои и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группа) -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 (подгруппа) - тетради и дневники школь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вид) - тетради для письма карандаш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и симпл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и симпл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и оптимизация объектов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и оптимизация объектов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унифицированных технолог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унифицированных технологических процес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Стандартизация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6.Стандартизация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направления стандартизаци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а направления стандартизаци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услу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ые словари дают различные толкования понятия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лю «Оказать услугу_это услужить, угодить, быть полезным, сделать нужное, угод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оваре Ожегова «Услуга - это действие, приносящее пользу или помощь друг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услу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лковые словари дают различные толкования понятия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варе Ожегова «Услуга - это действие, приносящее пользу или помощь друг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ое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ое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нятий составляющих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нима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понятий составляющих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ел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н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нима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ные бума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ьтурные ц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ност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щ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нные бума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нь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льтурные ц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ственная деятельность исполн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уж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обеспеч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на производство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ственная деятельность исполн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олог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обеспече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неджмент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ка на производство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енное состояние объекта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не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зультат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ное состояние объекта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не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в сфер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ство в сфер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й международный документ по услуг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й международный документ по услуг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е эргономичности услуг розничн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фортность и удобство при совершении покуп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о-гигиенические требования к персона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ые требования к содержанию помещений и торгового оборуд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е эргономичности услуг розничн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фортность и удобство при совершении покуп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о-гигиенические требования к персонал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ые требования к содержанию помещений и торгового оборуд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механизма стандартизации отражена в стандартизированном 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механизма стандартизации отражена в стандартизированном определ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7. Стандартизация страхов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7. Стандартизация страхов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енные интересы и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енные интересы и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ое регулирование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ое регулирование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я комп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 креди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цион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я комп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 (орган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 кредито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цион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рид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з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ын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страхов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страховых интере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н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транс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ого и иного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е и сельскохозяйственные 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ства транс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ьскохозяйственного и иного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машние и сельскохозяйственные 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тира, включая отдел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ча, садовый дом, гара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ельные угодь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ые объекты недвижимого иму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ллектуальная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вартира, включая отделк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ча, садовый дом, гара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мельные угодь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ые объекты недвижимого иму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ллектуальная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частный случ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 во время болез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частный случ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дицин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 во время болез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ая 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е пособие по безработ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к определенному событ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ая 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ое пособие по безработиц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к определенному событ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8. Стандартизация банков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8. Стандартизация банков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9. Международные стандарты финансовой отчетности пред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финансовой отчетности предприятий дикту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ю объективной информации о состоянии дел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9. Международные стандарты финансовой отчетности предприяти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финансовой отчетности предприятий диктуе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ю объективной информации о состоянии дел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модульная классификация учетны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ританско-американская модель(Великобритания, США, Нидерланды, Канада, Австра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инентальная модель (Германия, Австрия, Франция, Швейца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жноамериканская модель (Бразилия, Аргентина, Боли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хмодульная классификация учетных систе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итанско-американская модель(Великобритания, США, Нидерланды, Канада, Австра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инентальная модель (Германия, Австрия, Франция, Швейцар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жноамериканская модель (Бразилия, Аргентина, Болив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М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создания международных стандартов учета предшествуют следующие эта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 выбор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 определение содержания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 изучение научных разработок и практических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 анализ собранного матери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М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создания международных стандартов учета предшествуют следующие эта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 выбор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 определение содержания рабо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 изучение научных разработок и практических ре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 анализ собранного материа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ы МСФ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я – определение порядка ведения учета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я – регулирование организации учета материальных ценностей и не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я – отражение движения денеж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я – регламентирование учета инвести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я – отражение результата деятельности компании и ее финансового по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уппы МСФ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я – определение порядка ведения учета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я – отражение движения денежны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я – регламентирование учета инвестиц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я – отражение результата деятельности компании и ее финансового полож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рытие политики бухгалтерского учета МСФ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сное и краткое раскрытие всех важных положений учетн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соответствующие предшествующему пери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крытие политики бухгалтерского учета МСФО-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сное и краткое раскрытие всех важных положений учетн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нные, соответствующие предшествующему период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2 – товарно-материальные запа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2 – товарно-материальные запа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7 – отчет о движении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категории, по которым необходимо отражать движение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он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иционная и 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и с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предвиденные стать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нты и дивиден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 на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и продажа дочерни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наличн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7 – отчет о движении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категории, по которым необходимо отражать движение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он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иционная и 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и с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предвиденные стать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нты и дивиден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 на прибы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бретение и продажа дочерни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наличные сдел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0. Стандартизация и маркет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и исследования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кость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конкур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бы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ментац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0. Стандартизация и маркетин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ами исследования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мкость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о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конкурен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сбы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гментац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зы жизн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ие – стандартизация отсутств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продаж – низкая, начальная. Появление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релость – высокая. Стандартизация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д и уход с рынка – работы по стандартизации не веду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зы жизненного цик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 стандартизация отсутству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ст продаж – низкая, начальная. Появление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релость – высокая. Стандартизация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д и уход с рынка – работы по стандартизации не веду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и приоритет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и приоритет потреб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ритетная задач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ритетная задач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D82E6-5B40-4414-93B8-C3CCBE128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BEA3-4291-46C8-B3EB-841836FB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F8B79-E8DF-4424-9D4B-1B7B0F580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654A7-3634-4C6C-917C-C50BA57FF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C1EBC-3670-4359-B6C5-879C5A675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078A0-4361-4127-B35D-A23E3E3D4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A836-12FB-440F-A178-B95559D9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CB85-2B80-4DC1-BD87-B9C2E109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FD6D-362F-46AA-91FD-BE860725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1E03-EEF8-4472-ADB5-779A0502E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C31B-DC5A-4B90-817E-01808A4F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DC5B-FA54-4A40-97BC-FBD9E24BF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D675-1AE7-4732-8F7E-20770EF9545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Стандартизация в различных сферах</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ма 1. Сущность стандартизации</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ная технико-экономическая закономерность стандартизации</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Основная технико-экономическая закономерность стандартизации</a:t>
            </a:r>
            <a:r>
              <a:rPr b="0" lang="ru-RU" sz="2000" spc="-1" strike="noStrike">
                <a:solidFill>
                  <a:srgbClr val="000000"/>
                </a:solidFill>
                <a:latin typeface="Courier New"/>
              </a:rPr>
              <a:t>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изация рекламы</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3200" spc="-1" strike="noStrike">
              <a:solidFill>
                <a:srgbClr val="000000"/>
              </a:solidFill>
              <a:latin typeface="Times New Roman"/>
            </a:endParaRPr>
          </a:p>
        </p:txBody>
      </p:sp>
      <p:sp>
        <p:nvSpPr>
          <p:cNvPr id="3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методов изучения рынке</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3200" spc="-1" strike="noStrike">
              <a:solidFill>
                <a:srgbClr val="000000"/>
              </a:solidFill>
              <a:latin typeface="Times New Roman"/>
            </a:endParaRPr>
          </a:p>
        </p:txBody>
      </p:sp>
      <p:sp>
        <p:nvSpPr>
          <p:cNvPr id="3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11. Международная и региональная стандартизация</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28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 происхождении аббревиатуры ИСО</a:t>
            </a:r>
            <a:endParaRPr b="0" lang="en-US" sz="40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организация по стандартизации (ИСО) функционирует с 1947г.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a:t>
            </a:r>
            <a:r>
              <a:rPr b="0" lang="en-US" sz="2800" spc="-1" strike="noStrike">
                <a:solidFill>
                  <a:srgbClr val="000000"/>
                </a:solidFill>
                <a:latin typeface="Times New Roman"/>
              </a:rPr>
              <a:t>isos </a:t>
            </a:r>
            <a:r>
              <a:rPr b="0" lang="ru-RU" sz="2800" spc="-1" strike="noStrike">
                <a:solidFill>
                  <a:srgbClr val="000000"/>
                </a:solidFill>
                <a:latin typeface="Times New Roman"/>
              </a:rPr>
              <a:t>«равный»</a:t>
            </a:r>
            <a:endParaRPr b="0" lang="en-US" sz="2800" spc="-1" strike="noStrike">
              <a:solidFill>
                <a:srgbClr val="000000"/>
              </a:solidFill>
              <a:latin typeface="Times New Roman"/>
            </a:endParaRPr>
          </a:p>
        </p:txBody>
      </p:sp>
      <p:sp>
        <p:nvSpPr>
          <p:cNvPr id="3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ая организация по стандартизации (ИСО)</a:t>
            </a:r>
            <a:endParaRPr b="0" lang="en-US" sz="40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3200" spc="-1" strike="noStrike">
              <a:solidFill>
                <a:srgbClr val="000000"/>
              </a:solidFill>
              <a:latin typeface="Times New Roman"/>
            </a:endParaRPr>
          </a:p>
        </p:txBody>
      </p:sp>
      <p:sp>
        <p:nvSpPr>
          <p:cNvPr id="3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ктика </a:t>
            </a:r>
            <a:r>
              <a:rPr b="0" lang="ru-RU" sz="4000" spc="-1" strike="noStrike">
                <a:solidFill>
                  <a:srgbClr val="000000"/>
                </a:solidFill>
                <a:latin typeface="Times New Roman"/>
              </a:rPr>
              <a:t>Международной стандартизации (ИСО)</a:t>
            </a:r>
            <a:endParaRPr b="0" lang="en-US" sz="40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3200" spc="-1" strike="noStrike">
              <a:solidFill>
                <a:srgbClr val="000000"/>
              </a:solidFill>
              <a:latin typeface="Times New Roman"/>
            </a:endParaRPr>
          </a:p>
        </p:txBody>
      </p:sp>
      <p:sp>
        <p:nvSpPr>
          <p:cNvPr id="3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2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2800" spc="-1" strike="noStrike">
              <a:solidFill>
                <a:srgbClr val="000000"/>
              </a:solidFill>
              <a:latin typeface="Times New Roman"/>
            </a:endParaRPr>
          </a:p>
        </p:txBody>
      </p:sp>
      <p:sp>
        <p:nvSpPr>
          <p:cNvPr id="3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обеспечения качества»</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ический комитет по работе «Системы обеспечения качества» создан в 1979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3200" spc="-1" strike="noStrike">
              <a:solidFill>
                <a:srgbClr val="000000"/>
              </a:solidFill>
              <a:latin typeface="Times New Roman"/>
            </a:endParaRPr>
          </a:p>
        </p:txBody>
      </p:sp>
      <p:sp>
        <p:nvSpPr>
          <p:cNvPr id="3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ы ИСО серии 9000</a:t>
            </a: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3200" spc="-1" strike="noStrike">
              <a:solidFill>
                <a:srgbClr val="000000"/>
              </a:solidFill>
              <a:latin typeface="Times New Roman"/>
            </a:endParaRPr>
          </a:p>
        </p:txBody>
      </p:sp>
      <p:sp>
        <p:nvSpPr>
          <p:cNvPr id="3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итет по оценке соответствия продукции стандартам (КАСКО)</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2400" spc="-1" strike="noStrike">
              <a:solidFill>
                <a:srgbClr val="000000"/>
              </a:solidFill>
              <a:latin typeface="Times New Roman"/>
            </a:endParaRPr>
          </a:p>
        </p:txBody>
      </p:sp>
      <p:sp>
        <p:nvSpPr>
          <p:cNvPr id="3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r>
              <a:rPr b="0" lang="ru-RU"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митет по вопросам потребителей (КОПОЛКО)</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800" spc="-1" strike="noStrike">
                <a:solidFill>
                  <a:srgbClr val="000000"/>
                </a:solidFill>
                <a:latin typeface="Times New Roman"/>
              </a:rPr>
              <a:t>В задачи комитета по вопросам потребителей (КОПОЛКО) входи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a:t>
            </a:r>
            <a:r>
              <a:rPr b="0" lang="en-US" sz="1800" spc="-1" strike="noStrike">
                <a:solidFill>
                  <a:srgbClr val="000000"/>
                </a:solidFill>
                <a:latin typeface="Times New Roman"/>
              </a:rPr>
              <a:t>другим </a:t>
            </a:r>
            <a:r>
              <a:rPr b="0" lang="ru-RU" sz="1800" spc="-1" strike="noStrike">
                <a:solidFill>
                  <a:srgbClr val="000000"/>
                </a:solidFill>
                <a:latin typeface="Times New Roman"/>
              </a:rPr>
              <a:t>вопросам, представляющим интерес для потребителей;</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которые результаты деятельности КОПОЛКО </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2 «Сравнительные испытания продовольственных товаров»;</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 4 «Информация о товарах для потребителей»</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3200" spc="-1" strike="noStrike">
              <a:solidFill>
                <a:srgbClr val="000000"/>
              </a:solidFill>
              <a:latin typeface="Times New Roman"/>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онный комитет (ИНФКО)</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ачи ИНФК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уководство деятельностью информационной сети ИСО (ИСОН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ординация деятельности членов организации в области информационных услу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2800" spc="-1" strike="noStrike">
              <a:solidFill>
                <a:srgbClr val="000000"/>
              </a:solidFill>
              <a:latin typeface="Times New Roman"/>
            </a:endParaRPr>
          </a:p>
        </p:txBody>
      </p:sp>
      <p:sp>
        <p:nvSpPr>
          <p:cNvPr id="3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2. Стандартизация в рамках ЕС</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3200" spc="-1" strike="noStrike">
              <a:solidFill>
                <a:srgbClr val="000000"/>
              </a:solidFill>
              <a:latin typeface="Times New Roman"/>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Европейского комитета по стандартизации и электротехнике </a:t>
            </a:r>
            <a:r>
              <a:rPr b="0" lang="ru-RU" sz="2800" spc="-1" strike="noStrike">
                <a:solidFill>
                  <a:srgbClr val="000000"/>
                </a:solidFill>
                <a:latin typeface="Times New Roman"/>
              </a:rPr>
              <a:t>(СЕНЕЛЕК)</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28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ая программа устранения технических барьеров в торговле</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леная книга Европы»</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вростандарты должны отражать новейшие достижения техники и технолог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32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ая база стандартизации ЕС</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тановления Совета имеют прямое действие для стран-членов Е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аркировка знаком СЕ</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нак СЕ - не для потребителя, а для контролирующих и таможенных органов стра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2800" spc="-1" strike="noStrike">
              <a:solidFill>
                <a:srgbClr val="000000"/>
              </a:solidFill>
              <a:latin typeface="Times New Roman"/>
            </a:endParaRPr>
          </a:p>
        </p:txBody>
      </p:sp>
      <p:sp>
        <p:nvSpPr>
          <p:cNvPr id="4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Сущность опережающей стандартизации</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ущность ОС</a:t>
            </a:r>
            <a:r>
              <a:rPr b="0" lang="ru-RU" sz="1800" spc="-1" strike="noStrike">
                <a:solidFill>
                  <a:srgbClr val="000000"/>
                </a:solidFill>
                <a:latin typeface="Courier New"/>
              </a:rPr>
              <a:t>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С </a:t>
            </a:r>
            <a:r>
              <a:rPr b="1" lang="ru-RU" sz="1800" spc="-1" strike="noStrike" u="sng">
                <a:solidFill>
                  <a:srgbClr val="000000"/>
                </a:solidFill>
                <a:uFillTx/>
                <a:latin typeface="Courier New"/>
              </a:rPr>
              <a:t>Осуществляет </a:t>
            </a:r>
            <a:r>
              <a:rPr b="0" lang="ru-RU" sz="1800" spc="-1" strike="noStrike" u="sng">
                <a:solidFill>
                  <a:srgbClr val="000000"/>
                </a:solidFill>
                <a:uFillTx/>
                <a:latin typeface="Courier New"/>
              </a:rPr>
              <a:t>разработку</a:t>
            </a:r>
            <a:r>
              <a:rPr b="0" lang="ru-RU" sz="1800" spc="-1" strike="noStrike">
                <a:solidFill>
                  <a:srgbClr val="000000"/>
                </a:solidFill>
                <a:latin typeface="Courier New"/>
              </a:rPr>
              <a:t> отдельных стандартов к разрабатываемым системам, комплексам  технических устройств, </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способствует  лучшему планированию</a:t>
            </a:r>
            <a:r>
              <a:rPr b="0" lang="ru-RU" sz="1800" spc="-1" strike="noStrike">
                <a:solidFill>
                  <a:srgbClr val="000000"/>
                </a:solidFill>
                <a:latin typeface="Courier New"/>
              </a:rPr>
              <a:t> и производству запасных частей для новой техники.</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Процесс</a:t>
            </a:r>
            <a:r>
              <a:rPr b="0" lang="ru-RU" sz="1800" spc="-1" strike="noStrike">
                <a:solidFill>
                  <a:srgbClr val="000000"/>
                </a:solidFill>
                <a:latin typeface="Courier New"/>
              </a:rPr>
              <a:t> опережающей стандартизации является </a:t>
            </a:r>
            <a:r>
              <a:rPr b="0" lang="ru-RU" sz="1800" spc="-1" strike="noStrike" u="sng">
                <a:solidFill>
                  <a:srgbClr val="000000"/>
                </a:solidFill>
                <a:uFillTx/>
                <a:latin typeface="Courier New"/>
              </a:rPr>
              <a:t>непрерывным;</a:t>
            </a:r>
            <a:r>
              <a:rPr b="0" lang="ru-RU" sz="1800" spc="-1" strike="noStrike">
                <a:solidFill>
                  <a:srgbClr val="000000"/>
                </a:solidFill>
                <a:latin typeface="Courier New"/>
              </a:rPr>
              <a:t> после ввода в действие опережающего стандарта необходимо приступать к разработке нового стандарта. </a:t>
            </a:r>
            <a:r>
              <a:rPr b="1" lang="ru-RU" sz="1800" spc="-1" strike="noStrike">
                <a:solidFill>
                  <a:srgbClr val="000000"/>
                </a:solidFill>
                <a:latin typeface="Courier New"/>
              </a:rPr>
              <a:t>Неприменение</a:t>
            </a:r>
            <a:r>
              <a:rPr b="0" lang="ru-RU" sz="1800" spc="-1" strike="noStrike">
                <a:solidFill>
                  <a:srgbClr val="000000"/>
                </a:solidFill>
                <a:latin typeface="Courier New"/>
              </a:rPr>
              <a:t> принципа опережения стандартизации </a:t>
            </a:r>
            <a:r>
              <a:rPr b="1" lang="ru-RU" sz="1800" spc="-1" strike="noStrike">
                <a:solidFill>
                  <a:srgbClr val="000000"/>
                </a:solidFill>
                <a:latin typeface="Courier New"/>
              </a:rPr>
              <a:t>приводит к старению</a:t>
            </a:r>
            <a:r>
              <a:rPr b="0" lang="ru-RU" sz="1800" spc="-1" strike="noStrike">
                <a:solidFill>
                  <a:srgbClr val="000000"/>
                </a:solidFill>
                <a:latin typeface="Courier New"/>
              </a:rPr>
              <a:t> технических и экономических  показателей в стандартах.</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ирективы на пищевые продукты</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ертикальные директивы - на конкретные виды - сосиски, суфле, джемы.</a:t>
            </a:r>
            <a:endParaRPr b="0" lang="en-US" sz="3200" spc="-1" strike="noStrike">
              <a:solidFill>
                <a:srgbClr val="000000"/>
              </a:solidFill>
              <a:latin typeface="Times New Roman"/>
            </a:endParaRPr>
          </a:p>
        </p:txBody>
      </p:sp>
      <p:sp>
        <p:nvSpPr>
          <p:cNvPr id="4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мочные директивы</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3200" spc="-1" strike="noStrike">
              <a:solidFill>
                <a:srgbClr val="000000"/>
              </a:solidFill>
              <a:latin typeface="Times New Roman"/>
            </a:endParaRPr>
          </a:p>
        </p:txBody>
      </p:sp>
      <p:sp>
        <p:nvSpPr>
          <p:cNvPr id="4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итика СЕН и СЕНЕЛЕК</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ть международные стандарты ИСО и МЭК в качестве региональны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3200" spc="-1" strike="noStrike">
              <a:solidFill>
                <a:srgbClr val="000000"/>
              </a:solidFill>
              <a:latin typeface="Times New Roman"/>
            </a:endParaRPr>
          </a:p>
        </p:txBody>
      </p:sp>
      <p:sp>
        <p:nvSpPr>
          <p:cNvPr id="4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3. Гармонизация стандартов</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п потребностей (материальные, нематериальные, комплекс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арактер потребления ( личный, коллективный, общественны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оказания (возмездные, льготные, безвозмездны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рубежные услуги</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рубежные услуги разделяются по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ействования техники и механизм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венства персонала (профессионализ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ированные Евростандарты</a:t>
            </a:r>
            <a:endParaRPr b="0" lang="en-US" sz="32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рамках ВТО</a:t>
            </a:r>
            <a:endParaRPr b="0" lang="en-US" sz="32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странах-членах ВТ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глашение по техническим барьерам в торговле</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вила деятельности членов ВТ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тификация (уведомление) и транспарентность ( прозрачно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правила деятельности членов ВТО</a:t>
            </a:r>
            <a:endParaRPr b="0" lang="en-US" sz="32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отифик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анспарентность;</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a:t>
            </a:r>
            <a:endParaRPr b="0" lang="en-US" sz="32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изделия</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Этапы создания изделия</a:t>
            </a:r>
            <a:r>
              <a:rPr b="0" lang="ru-RU" sz="2000" spc="-1" strike="noStrike">
                <a:solidFill>
                  <a:srgbClr val="000000"/>
                </a:solidFill>
                <a:latin typeface="Courier New"/>
              </a:rPr>
              <a:t>:</a:t>
            </a:r>
            <a:endParaRPr b="0" lang="en-US" sz="20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ектно-конструкторские работы по созданию опытного образц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ехническая подготовка промышленного производств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мышленное производство изделия</a:t>
            </a:r>
            <a:endParaRPr b="0" lang="en-US" sz="1800" spc="-1" strike="noStrike">
              <a:solidFill>
                <a:srgbClr val="000000"/>
              </a:solidFill>
              <a:latin typeface="Times New Roman"/>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Поле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завода (отрасли)</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одного государства</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региональной группы стран</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мировом масштабе</a:t>
            </a:r>
            <a:endParaRPr b="0" lang="en-US" sz="20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 членов ВТО</a:t>
            </a:r>
            <a:endParaRPr b="0" lang="en-US" sz="32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a:t>
            </a:r>
            <a:r>
              <a:rPr b="0" lang="en-US" sz="2400" spc="-1" strike="noStrike">
                <a:solidFill>
                  <a:srgbClr val="000000"/>
                </a:solidFill>
                <a:latin typeface="Times New Roman"/>
              </a:rPr>
              <a:t> </a:t>
            </a:r>
            <a:r>
              <a:rPr b="0" lang="ru-RU" sz="2400" spc="-1" strike="noStrike">
                <a:solidFill>
                  <a:srgbClr val="000000"/>
                </a:solidFill>
                <a:latin typeface="Times New Roman"/>
              </a:rPr>
              <a:t>информацию о действующих и разрабатываемых в стране НТ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Комплексная стандартизация</a:t>
            </a:r>
            <a:endParaRPr b="0" lang="en-US" sz="28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омплексная стандартизация</a:t>
            </a:r>
            <a:r>
              <a:rPr b="0" lang="ru-RU" sz="1800" spc="-1" strike="noStrike">
                <a:solidFill>
                  <a:srgbClr val="000000"/>
                </a:solidFill>
                <a:latin typeface="Courier New"/>
              </a:rPr>
              <a:t>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актической реализацией этого метода выступает программы комплексной стандартизации (ПКС).</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В настоящее время реализуется ПКС "Безопасность в чрезвычайных ситуациях".</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нципы комплексной стандартизации</a:t>
            </a:r>
            <a:endParaRPr b="0" lang="en-US" sz="32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нципы КС основаны на выявлении </a:t>
            </a:r>
            <a:r>
              <a:rPr b="0" lang="ru-RU" sz="2000" spc="-1" strike="noStrike">
                <a:solidFill>
                  <a:srgbClr val="000000"/>
                </a:solidFill>
                <a:latin typeface="Times New Roman"/>
              </a:rPr>
              <a:t>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истемность</a:t>
            </a:r>
            <a:r>
              <a:rPr b="0" lang="ru-RU" sz="2000" spc="-1" strike="noStrike">
                <a:solidFill>
                  <a:srgbClr val="000000"/>
                </a:solidFill>
                <a:latin typeface="Times New Roman"/>
              </a:rPr>
              <a:t> (установление взаимосвязанных требований с целью обеспечения высшего уровня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Оптимальность (</a:t>
            </a:r>
            <a:r>
              <a:rPr b="0" lang="ru-RU" sz="2000" spc="-1" strike="noStrike">
                <a:solidFill>
                  <a:srgbClr val="000000"/>
                </a:solidFill>
                <a:latin typeface="Times New Roman"/>
              </a:rPr>
              <a:t>определение оптимальной </a:t>
            </a:r>
            <a:r>
              <a:rPr b="0" lang="ru-RU" sz="2400" spc="-1" strike="noStrike">
                <a:solidFill>
                  <a:srgbClr val="000000"/>
                </a:solidFill>
                <a:latin typeface="Times New Roman"/>
              </a:rPr>
              <a:t>номенклатуры объектов</a:t>
            </a:r>
            <a:r>
              <a:rPr b="0" lang="ru-RU" sz="2000" spc="-1" strike="noStrike">
                <a:solidFill>
                  <a:srgbClr val="000000"/>
                </a:solidFill>
                <a:latin typeface="Times New Roman"/>
              </a:rPr>
              <a:t> КС, состава и количественных значений показателей их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ограммное планирование (</a:t>
            </a:r>
            <a:r>
              <a:rPr b="0" lang="ru-RU" sz="2000" spc="-1" strike="noStrike">
                <a:solidFill>
                  <a:srgbClr val="000000"/>
                </a:solidFill>
                <a:latin typeface="Times New Roman"/>
              </a:rPr>
              <a:t>разработка специальных программ КС объектов, их элементов, включаемых в  планы стандарт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пережающая стандартизация</a:t>
            </a:r>
            <a:r>
              <a:rPr b="0" lang="ru-RU" sz="1800" spc="-1" strike="noStrike">
                <a:solidFill>
                  <a:srgbClr val="000000"/>
                </a:solidFill>
                <a:latin typeface="Courier New"/>
              </a:rPr>
              <a:t>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не могут только фиксировать достигнутый уровень науки и техники</a:t>
            </a:r>
            <a:r>
              <a:rPr b="0" lang="ru-RU" sz="1800" spc="-1" strike="noStrike">
                <a:solidFill>
                  <a:srgbClr val="000000"/>
                </a:solidFill>
                <a:latin typeface="Courier New"/>
              </a:rPr>
              <a:t>, т.к. из-за высоких темпов старения многих видов продукции они могут стать тормозом технического прогресса.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тандарты </a:t>
            </a:r>
            <a:r>
              <a:rPr b="1" lang="ru-RU" sz="1800" spc="-1" strike="noStrike">
                <a:solidFill>
                  <a:srgbClr val="000000"/>
                </a:solidFill>
                <a:latin typeface="Courier New"/>
              </a:rPr>
              <a:t>должны устанавливать перспективные показатели качества </a:t>
            </a:r>
            <a:r>
              <a:rPr b="0" lang="ru-RU" sz="1800" spc="-1" strike="noStrike">
                <a:solidFill>
                  <a:srgbClr val="000000"/>
                </a:solidFill>
                <a:latin typeface="Courier New"/>
              </a:rPr>
              <a:t>с указанием сроков их обеспечения промышленным производством.</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пективная стандартизация</a:t>
            </a:r>
            <a:endParaRPr b="0" lang="en-US" sz="32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Направление опережаемости</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о ассортименту (типам),видам, маркам (сортам), типоразмера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изнакам, свойствам и функция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еемственности (взаимоувязке) элементов конструкций старых и новых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количественному значению показателей признаков продукции</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Разновидностью опережающего стандарта является </a:t>
            </a:r>
            <a:r>
              <a:rPr b="1" lang="ru-RU" sz="1800" spc="-1" strike="noStrike">
                <a:solidFill>
                  <a:srgbClr val="000000"/>
                </a:solidFill>
                <a:latin typeface="Courier New"/>
              </a:rPr>
              <a:t>ступенчатый стандарт</a:t>
            </a:r>
            <a:r>
              <a:rPr b="0" lang="ru-RU" sz="1800" spc="-1" strike="noStrike">
                <a:solidFill>
                  <a:srgbClr val="000000"/>
                </a:solidFill>
                <a:latin typeface="Courier New"/>
              </a:rPr>
              <a:t>, содержащий показатели </a:t>
            </a:r>
            <a:r>
              <a:rPr b="1" lang="ru-RU" sz="1800" spc="-1" strike="noStrike">
                <a:solidFill>
                  <a:srgbClr val="000000"/>
                </a:solidFill>
                <a:latin typeface="Courier New"/>
              </a:rPr>
              <a:t>качества различного уровня (с разными сроками реализации каждой из ступеней</a:t>
            </a:r>
            <a:r>
              <a:rPr b="0" lang="ru-RU" sz="1800" spc="-1" strike="noStrike">
                <a:solidFill>
                  <a:srgbClr val="000000"/>
                </a:solidFill>
                <a:latin typeface="Courier New"/>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Главным условием</a:t>
            </a:r>
            <a:r>
              <a:rPr b="0" lang="ru-RU" sz="1800" spc="-1" strike="noStrike">
                <a:solidFill>
                  <a:srgbClr val="000000"/>
                </a:solidFill>
                <a:latin typeface="Courier New"/>
              </a:rPr>
              <a:t> дальнейшего развития ОС является </a:t>
            </a:r>
            <a:r>
              <a:rPr b="1" lang="ru-RU" sz="1800" spc="-1" strike="noStrike">
                <a:solidFill>
                  <a:srgbClr val="000000"/>
                </a:solidFill>
                <a:latin typeface="Courier New"/>
              </a:rPr>
              <a:t>долгосрочное научное планирование</a:t>
            </a:r>
            <a:r>
              <a:rPr b="0" lang="ru-RU" sz="1800" spc="-1" strike="noStrike">
                <a:solidFill>
                  <a:srgbClr val="000000"/>
                </a:solidFill>
                <a:latin typeface="Courier New"/>
              </a:rPr>
              <a:t> ( оно позволяет видеть основные направления совершенствования изделий, пути улучшения стандартов.</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Требования к опережающей стандартизации</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перспективных планах развития стран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долгосрочном и краткосрочном научном прогнозирован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Изучение новейших открытий в стране и за рубежом;</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Широкое использование патентной информа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Учет замечаний и рекламаций на базовую модель.</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ополагающие стандарты</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основополагающие стандарты  устанавливают</a:t>
            </a:r>
            <a:r>
              <a:rPr b="0" lang="ru-RU" sz="1600" spc="-1" strike="noStrike">
                <a:solidFill>
                  <a:srgbClr val="000000"/>
                </a:solidFill>
                <a:latin typeface="Courier New"/>
              </a:rPr>
              <a:t>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понимание,</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ехническое единство</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связь различных областей науки, техники и производства в процессах создания и использования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храну окружающей сред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Безопасность продукции процессов и услуг для жизни, здоровья люд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Сохранность имущества и другие общетехнические требования (ГОСТ Р 1.0-92)</a:t>
            </a: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urier New"/>
              </a:rPr>
              <a:t>Основополагающие организационно-технические стандарты</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Основополагающие общетехнические стандарты</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сновополагающие общетехнические стандарты</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Условные обозначения для различных объектов стандартизации.</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ребования к построению. Изложению и содержанию различных видов документов.</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етическая</a:t>
            </a:r>
            <a:r>
              <a:rPr b="0" lang="ru-RU" sz="3600" spc="-1" strike="noStrike">
                <a:solidFill>
                  <a:srgbClr val="000000"/>
                </a:solidFill>
                <a:latin typeface="Times New Roman"/>
              </a:rPr>
              <a:t> база стандартизации</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й</a:t>
            </a:r>
            <a:r>
              <a:rPr b="0" lang="ru-RU" sz="1800" spc="-1" strike="noStrike">
                <a:solidFill>
                  <a:srgbClr val="000000"/>
                </a:solidFill>
                <a:latin typeface="Times New Roman"/>
              </a:rPr>
              <a:t>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яды предпочтительных чисел должны удовлетворять следующим требованиям:</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бесконечными в направлениях уменьшения и увеличения чисел;</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простыми и легко запоминающимися.</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Courier New"/>
              </a:rPr>
              <a:t>Законодательной обеспечение применения общетехнических систем и комплексов стандартов в РФ</a:t>
            </a:r>
            <a:br>
              <a:rPr sz="2000"/>
            </a:b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В </a:t>
            </a:r>
            <a:r>
              <a:rPr b="1" lang="ru-RU" sz="2400" spc="-1" strike="noStrike">
                <a:solidFill>
                  <a:srgbClr val="000000"/>
                </a:solidFill>
                <a:latin typeface="Courier New"/>
              </a:rPr>
              <a:t>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вовое поле  НТД в РФ</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общие правила обеспечения качества продукции, работ и услуг,</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Сохранения и рационального использования всех видов ресурс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термины и их определен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словные обознач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метрологические и другие общетехнические и организационно-технические правила и норм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Структурная схема ГСС РФ</a:t>
            </a:r>
            <a:endParaRPr b="0" lang="en-US" sz="4000" spc="-1" strike="noStrike">
              <a:solidFill>
                <a:srgbClr val="000000"/>
              </a:solidFill>
              <a:latin typeface="Times New Roman"/>
            </a:endParaRPr>
          </a:p>
        </p:txBody>
      </p:sp>
      <p:graphicFrame>
        <p:nvGraphicFramePr>
          <p:cNvPr id="115" name="Object 3"/>
          <p:cNvGraphicFramePr/>
          <p:nvPr/>
        </p:nvGraphicFramePr>
        <p:xfrm>
          <a:off x="2828880" y="1981080"/>
          <a:ext cx="3486240" cy="4114800"/>
        </p:xfrm>
        <a:graphic>
          <a:graphicData uri="http://schemas.openxmlformats.org/presentationml/2006/ole">
            <p:oleObj progId="Word.Document.12" r:id="rId1" spid="">
              <p:embed/>
              <p:pic>
                <p:nvPicPr>
                  <p:cNvPr id="116" name="Object 3" descr=""/>
                  <p:cNvPicPr/>
                  <p:nvPr/>
                </p:nvPicPr>
                <p:blipFill>
                  <a:blip r:embed="rId2"/>
                  <a:stretch/>
                </p:blipFill>
                <p:spPr>
                  <a:xfrm>
                    <a:off x="2828880" y="1981080"/>
                    <a:ext cx="3486240" cy="4114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истема стандартов по управлению и информации</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стандартов социальной сферы</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Безопасность в чрезвычайных ситуациях» (ГОСТ Р 2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Система стандартов безопасности труда»(ГОСТ 1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мплекс стандартов по охране природы (ГОСТ  17.)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a:t>
            </a:r>
            <a:r>
              <a:rPr b="0" lang="ru-RU" sz="2800" spc="-1" strike="noStrike">
                <a:solidFill>
                  <a:srgbClr val="000000"/>
                </a:solidFill>
                <a:latin typeface="Times New Roman"/>
              </a:rPr>
              <a:t> ЕСКК ТЭИ</a:t>
            </a:r>
            <a:endParaRPr b="0" lang="en-US" sz="28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тист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нансов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нковское дел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ухгалтерский уч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a:t>
            </a:r>
            <a:endParaRPr b="0" lang="en-US" sz="28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изводство продукции</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е услуг</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моженное дело</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рговля</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нешнеэкономическая деятельность</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3. Применение стандартов в РФ</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стандартов</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это стадия их нормоприменение, т.е. использования и соблюдения установленных</a:t>
            </a:r>
            <a:r>
              <a:rPr b="1" lang="ru-RU" sz="2400" spc="-1" strike="noStrike">
                <a:solidFill>
                  <a:srgbClr val="000000"/>
                </a:solidFill>
                <a:latin typeface="Courier New"/>
              </a:rPr>
              <a:t> в них императивных (обязательных во всех случаях) и диспозитивных (обязательных для конкретных случаев) </a:t>
            </a:r>
            <a:r>
              <a:rPr b="1" lang="ru-RU" sz="2400" spc="-1" strike="noStrike" u="sng">
                <a:solidFill>
                  <a:srgbClr val="000000"/>
                </a:solidFill>
                <a:uFillTx/>
                <a:latin typeface="Courier New"/>
              </a:rPr>
              <a:t>требований</a:t>
            </a:r>
            <a:r>
              <a:rPr b="1" lang="ru-RU" sz="2400" spc="-1" strike="noStrike">
                <a:solidFill>
                  <a:srgbClr val="000000"/>
                </a:solidFill>
                <a:latin typeface="Courier New"/>
              </a:rPr>
              <a:t> в процессах производственно-хозяйственной  деятельности.</a:t>
            </a:r>
            <a:endParaRPr b="0" lang="en-US" sz="2400" spc="-1" strike="noStrike">
              <a:solidFill>
                <a:srgbClr val="000000"/>
              </a:solidFill>
              <a:latin typeface="Times New Roman"/>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етоды применения стандартов в РФ</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a:t>
            </a:r>
            <a:r>
              <a:rPr b="1" lang="ru-RU" sz="1600" spc="-1" strike="noStrike">
                <a:solidFill>
                  <a:srgbClr val="000000"/>
                </a:solidFill>
                <a:latin typeface="Courier New"/>
              </a:rPr>
              <a:t>трех основных методов</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ямое непосредственное применение и соблюдение требований стандартов </a:t>
            </a:r>
            <a:r>
              <a:rPr b="0" lang="ru-RU" sz="1600" spc="-1" strike="noStrike">
                <a:solidFill>
                  <a:srgbClr val="000000"/>
                </a:solidFill>
                <a:latin typeface="Courier New"/>
              </a:rPr>
              <a:t>(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Опосредованное применение стандартов путем разработки и соблюдения технической документации </a:t>
            </a:r>
            <a:r>
              <a:rPr b="0" lang="ru-RU" sz="1600" spc="-1" strike="noStrike">
                <a:solidFill>
                  <a:srgbClr val="000000"/>
                </a:solidFill>
                <a:latin typeface="Courier New"/>
              </a:rPr>
              <a:t>(конструкторской, технологической, проектной) на конкретные продукцию, работы и услуг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Ссылки на стандарты в технической,  коммерческой  и управленческой деятельн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менение стандартов ГОСТ Р и ГОСТ</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На территории России </a:t>
            </a:r>
            <a:r>
              <a:rPr b="1" lang="ru-RU" sz="2400" spc="-1" strike="noStrike" u="sng">
                <a:solidFill>
                  <a:srgbClr val="000000"/>
                </a:solidFill>
                <a:uFillTx/>
                <a:latin typeface="Courier New"/>
              </a:rPr>
              <a:t>стандарты ГОСТ Р И ГОСТ в соответствии с областью их распространения</a:t>
            </a:r>
            <a:r>
              <a:rPr b="1" lang="ru-RU" sz="2400" spc="-1" strike="noStrike">
                <a:solidFill>
                  <a:srgbClr val="000000"/>
                </a:solidFill>
                <a:latin typeface="Courier New"/>
              </a:rPr>
              <a:t>  действуют в качестве нормативных документов </a:t>
            </a:r>
            <a:r>
              <a:rPr b="1" lang="ru-RU" sz="2400" spc="-1" strike="noStrike" u="sng">
                <a:solidFill>
                  <a:srgbClr val="000000"/>
                </a:solidFill>
                <a:uFillTx/>
                <a:latin typeface="Courier New"/>
              </a:rPr>
              <a:t>без каких-либо ограничений</a:t>
            </a:r>
            <a:r>
              <a:rPr b="0" lang="ru-RU" sz="2400" spc="-1" strike="noStrike">
                <a:solidFill>
                  <a:srgbClr val="000000"/>
                </a:solidFill>
                <a:latin typeface="Courier New"/>
              </a:rPr>
              <a:t>, а </a:t>
            </a:r>
            <a:r>
              <a:rPr b="1" lang="ru-RU" sz="2400" spc="-1" strike="noStrike" u="sng">
                <a:solidFill>
                  <a:srgbClr val="000000"/>
                </a:solidFill>
                <a:uFillTx/>
                <a:latin typeface="Courier New"/>
              </a:rPr>
              <a:t>ОСТ - только в случаях, когда их требования не противоречат</a:t>
            </a:r>
            <a:r>
              <a:rPr b="1" lang="ru-RU" sz="2400" spc="-1" strike="noStrike">
                <a:solidFill>
                  <a:srgbClr val="000000"/>
                </a:solidFill>
                <a:latin typeface="Courier New"/>
              </a:rPr>
              <a:t> законодательству РФ </a:t>
            </a:r>
            <a:r>
              <a:rPr b="0" lang="ru-RU" sz="2400" spc="-1" strike="noStrike">
                <a:solidFill>
                  <a:srgbClr val="000000"/>
                </a:solidFill>
                <a:latin typeface="Courier New"/>
              </a:rPr>
              <a:t>или специальным техническим регламентам, установленным компетентными государственными контрольно-надзорными органам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предприятий</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 создаваемую на данном предприятии продукцию, услуги и производственные процесс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3200" spc="-1" strike="noStrike">
                <a:solidFill>
                  <a:srgbClr val="000000"/>
                </a:solidFill>
                <a:latin typeface="Courier New"/>
              </a:rPr>
              <a:t>Механизм стандартизации</a:t>
            </a:r>
            <a:br>
              <a:rPr sz="3200"/>
            </a:br>
            <a:br>
              <a:rPr sz="3200"/>
            </a:br>
            <a:endParaRPr b="0" lang="en-US" sz="3200" spc="-1" strike="noStrike">
              <a:solidFill>
                <a:srgbClr val="000000"/>
              </a:solidFill>
              <a:latin typeface="Times New Roman"/>
            </a:endParaRPr>
          </a:p>
        </p:txBody>
      </p:sp>
      <p:graphicFrame>
        <p:nvGraphicFramePr>
          <p:cNvPr id="55" name="Object 3"/>
          <p:cNvGraphicFramePr/>
          <p:nvPr/>
        </p:nvGraphicFramePr>
        <p:xfrm>
          <a:off x="1093680" y="2077920"/>
          <a:ext cx="2992680" cy="3919680"/>
        </p:xfrm>
        <a:graphic>
          <a:graphicData uri="http://schemas.openxmlformats.org/presentationml/2006/ole">
            <p:oleObj progId="Word.Document.12" r:id="rId1" spid="">
              <p:embed/>
              <p:pic>
                <p:nvPicPr>
                  <p:cNvPr id="56" name="Object 3" descr=""/>
                  <p:cNvPicPr/>
                  <p:nvPr/>
                </p:nvPicPr>
                <p:blipFill>
                  <a:blip r:embed="rId2"/>
                  <a:stretch/>
                </p:blipFill>
                <p:spPr>
                  <a:xfrm>
                    <a:off x="1093680" y="2077920"/>
                    <a:ext cx="2992680" cy="3919680"/>
                  </a:xfrm>
                  <a:prstGeom prst="rect">
                    <a:avLst/>
                  </a:prstGeom>
                  <a:ln w="0">
                    <a:noFill/>
                  </a:ln>
                </p:spPr>
              </p:pic>
            </p:oleObj>
          </a:graphicData>
        </a:graphic>
      </p:graphicFrame>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яется 4 этапа механизма стандартизации</a:t>
            </a:r>
            <a:endParaRPr b="0" lang="en-US" sz="28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технических обществ</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новых НТД</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отечественных НТД лицами других государств</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Отечественные стандарты могут применять</a:t>
            </a:r>
            <a:r>
              <a:rPr b="0" lang="ru-RU" sz="2400" spc="-1" strike="noStrike">
                <a:solidFill>
                  <a:srgbClr val="000000"/>
                </a:solidFill>
                <a:latin typeface="Courier New"/>
              </a:rPr>
              <a:t> юридические или физические лица других государств </a:t>
            </a:r>
            <a:r>
              <a:rPr b="1" lang="ru-RU" sz="2400" spc="-1" strike="noStrike">
                <a:solidFill>
                  <a:srgbClr val="000000"/>
                </a:solidFill>
                <a:latin typeface="Courier New"/>
              </a:rPr>
              <a:t>на основе соответствующих соглашения, договоров о научно-техническом сотрудничестве, </a:t>
            </a:r>
            <a:r>
              <a:rPr b="0" lang="ru-RU" sz="2400" spc="-1" strike="noStrike">
                <a:solidFill>
                  <a:srgbClr val="000000"/>
                </a:solidFill>
                <a:latin typeface="Courier New"/>
              </a:rPr>
              <a:t>или с разрешения соответствующих органов управления, субъектов хозяйственной деятельности, принявших (утвердивших) эти документы.</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именение НТД покупателями и поставщиками</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Товаропотребители (покупатели) и товаропроизводители (поставщики, исполнители), </a:t>
            </a:r>
            <a:r>
              <a:rPr b="1" lang="ru-RU" sz="2400" spc="-1" strike="noStrike">
                <a:solidFill>
                  <a:srgbClr val="000000"/>
                </a:solidFill>
                <a:latin typeface="Courier New"/>
              </a:rPr>
              <a:t>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обенности применения НТД при вывозе продукции</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отечественных стандартов</a:t>
            </a:r>
            <a:r>
              <a:rPr b="0" lang="ru-RU" sz="2400" spc="-1" strike="noStrike">
                <a:solidFill>
                  <a:srgbClr val="000000"/>
                </a:solidFill>
                <a:latin typeface="Courier New"/>
              </a:rPr>
              <a:t> в отношении поставляемой продукции и оказания услуг на </a:t>
            </a:r>
            <a:r>
              <a:rPr b="1" lang="ru-RU" sz="2400" spc="-1" strike="noStrike">
                <a:solidFill>
                  <a:srgbClr val="000000"/>
                </a:solidFill>
                <a:latin typeface="Courier New"/>
              </a:rPr>
              <a:t>территории РФ с вывозом ее с территории России определяется контрактами с зарубежными партнерами.</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В случаях, если </a:t>
            </a:r>
            <a:r>
              <a:rPr b="1" lang="ru-RU" sz="2400" spc="-1" strike="noStrike">
                <a:solidFill>
                  <a:srgbClr val="000000"/>
                </a:solidFill>
                <a:latin typeface="Courier New"/>
              </a:rPr>
              <a:t>продукция </a:t>
            </a:r>
            <a:r>
              <a:rPr b="1" lang="ru-RU" sz="2400" spc="-1" strike="noStrike" u="sng">
                <a:solidFill>
                  <a:srgbClr val="000000"/>
                </a:solidFill>
                <a:uFillTx/>
                <a:latin typeface="Courier New"/>
              </a:rPr>
              <a:t>полностью вывозится</a:t>
            </a:r>
            <a:r>
              <a:rPr b="1" lang="ru-RU" sz="2400" spc="-1" strike="noStrike">
                <a:solidFill>
                  <a:srgbClr val="000000"/>
                </a:solidFill>
                <a:latin typeface="Courier New"/>
              </a:rPr>
              <a:t> с территории  РФ, возможно применение </a:t>
            </a:r>
            <a:r>
              <a:rPr b="1" lang="ru-RU" sz="2400" spc="-1" strike="noStrike" u="sng">
                <a:solidFill>
                  <a:srgbClr val="000000"/>
                </a:solidFill>
                <a:uFillTx/>
                <a:latin typeface="Courier New"/>
              </a:rPr>
              <a:t>в полном объеме требований зарубежных стандартов</a:t>
            </a:r>
            <a:r>
              <a:rPr b="1" lang="ru-RU" sz="2400" spc="-1" strike="noStrike">
                <a:solidFill>
                  <a:srgbClr val="000000"/>
                </a:solidFill>
                <a:latin typeface="Courier New"/>
              </a:rPr>
              <a:t>, </a:t>
            </a:r>
            <a:r>
              <a:rPr b="0" lang="ru-RU" sz="2400" spc="-1" strike="noStrike">
                <a:solidFill>
                  <a:srgbClr val="000000"/>
                </a:solidFill>
                <a:latin typeface="Courier New"/>
              </a:rPr>
              <a:t>что также определяется договорами-контрактами.</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стандартов </a:t>
            </a:r>
            <a:r>
              <a:rPr b="0" lang="en-US" sz="4000" spc="-1" strike="noStrike">
                <a:solidFill>
                  <a:srgbClr val="000000"/>
                </a:solidFill>
                <a:latin typeface="Times New Roman"/>
              </a:rPr>
              <a:t>при </a:t>
            </a:r>
            <a:r>
              <a:rPr b="0" lang="ru-RU" sz="4000" spc="-1" strike="noStrike">
                <a:solidFill>
                  <a:srgbClr val="000000"/>
                </a:solidFill>
                <a:latin typeface="Times New Roman"/>
              </a:rPr>
              <a:t>ввозе продукции</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urier New"/>
              </a:rPr>
              <a:t>Импортируемая продукция и услуги</a:t>
            </a:r>
            <a:r>
              <a:rPr b="1" lang="ru-RU" sz="2800" spc="-1" strike="noStrike">
                <a:solidFill>
                  <a:srgbClr val="000000"/>
                </a:solidFill>
                <a:latin typeface="Courier New"/>
              </a:rPr>
              <a:t>, ввозимые на таможенную территорию РФ, должны соответствовать </a:t>
            </a:r>
            <a:r>
              <a:rPr b="1" lang="ru-RU" sz="2800" spc="-1" strike="noStrike" u="sng">
                <a:solidFill>
                  <a:srgbClr val="000000"/>
                </a:solidFill>
                <a:uFillTx/>
                <a:latin typeface="Courier New"/>
              </a:rPr>
              <a:t>всем обязательным требованиями по безопасности и экологии</a:t>
            </a:r>
            <a:r>
              <a:rPr b="1" lang="ru-RU" sz="2800" spc="-1" strike="noStrike">
                <a:solidFill>
                  <a:srgbClr val="000000"/>
                </a:solidFill>
                <a:latin typeface="Courier New"/>
              </a:rPr>
              <a:t>, действующих ГОСТ Р, ГОСТ, что следует подтверждать соответствующими сертификатами.</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менение </a:t>
            </a:r>
            <a:r>
              <a:rPr b="1" lang="ru-RU" sz="3600" spc="-1" strike="noStrike">
                <a:solidFill>
                  <a:srgbClr val="000000"/>
                </a:solidFill>
                <a:latin typeface="Courier New"/>
              </a:rPr>
              <a:t>стандартов зарубежных стран</a:t>
            </a:r>
            <a:r>
              <a:rPr b="1" lang="ru-RU"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urier New"/>
              </a:rPr>
              <a:t>Региональные стандарты и национальные</a:t>
            </a:r>
            <a:r>
              <a:rPr b="0" lang="ru-RU" sz="3200" spc="-1" strike="noStrike">
                <a:solidFill>
                  <a:srgbClr val="000000"/>
                </a:solidFill>
                <a:latin typeface="Courier New"/>
              </a:rPr>
              <a:t> </a:t>
            </a:r>
            <a:r>
              <a:rPr b="1" lang="ru-RU" sz="3200" spc="-1" strike="noStrike">
                <a:solidFill>
                  <a:srgbClr val="000000"/>
                </a:solidFill>
                <a:latin typeface="Courier New"/>
              </a:rPr>
              <a:t>стандарты зарубежных стран применяют в России </a:t>
            </a:r>
            <a:r>
              <a:rPr b="1" lang="ru-RU" sz="3200" spc="-1" strike="noStrike" u="sng">
                <a:solidFill>
                  <a:srgbClr val="000000"/>
                </a:solidFill>
                <a:uFillTx/>
                <a:latin typeface="Courier New"/>
              </a:rPr>
              <a:t>на основе договоров о сотрудничестве или с разрешения</a:t>
            </a:r>
            <a:r>
              <a:rPr b="0" lang="ru-RU" sz="3200" spc="-1" strike="noStrike">
                <a:solidFill>
                  <a:srgbClr val="000000"/>
                </a:solidFill>
                <a:latin typeface="Courier New"/>
              </a:rPr>
              <a:t> соответствующих организаций, а также национальных органов зарубежных стран.</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осредованное применение международных стандартов</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Международные стандарты</a:t>
            </a:r>
            <a:r>
              <a:rPr b="0" lang="ru-RU" sz="2000" spc="-1" strike="noStrike">
                <a:solidFill>
                  <a:srgbClr val="000000"/>
                </a:solidFill>
                <a:latin typeface="Courier New"/>
              </a:rPr>
              <a:t>, </a:t>
            </a:r>
            <a:r>
              <a:rPr b="1" lang="ru-RU" sz="2000" spc="-1" strike="noStrike">
                <a:solidFill>
                  <a:srgbClr val="000000"/>
                </a:solidFill>
                <a:latin typeface="Courier New"/>
              </a:rPr>
              <a:t>международные региональные стандарты (при условии присоединения России к ним) применяют на территории России </a:t>
            </a:r>
            <a:r>
              <a:rPr b="1" lang="ru-RU" sz="2000" spc="-1" strike="noStrike" u="sng">
                <a:solidFill>
                  <a:srgbClr val="000000"/>
                </a:solidFill>
                <a:uFillTx/>
                <a:latin typeface="Courier New"/>
              </a:rPr>
              <a:t>опосредовано</a:t>
            </a:r>
            <a:r>
              <a:rPr b="1" lang="ru-RU" sz="2000" spc="-1" strike="noStrike">
                <a:solidFill>
                  <a:srgbClr val="000000"/>
                </a:solidFill>
                <a:latin typeface="Courier New"/>
              </a:rPr>
              <a:t>,</a:t>
            </a:r>
            <a:r>
              <a:rPr b="0" lang="ru-RU" sz="2000" spc="-1" strike="noStrike">
                <a:solidFill>
                  <a:srgbClr val="000000"/>
                </a:solidFill>
                <a:latin typeface="Courier New"/>
              </a:rPr>
              <a:t> т.е. </a:t>
            </a:r>
            <a:r>
              <a:rPr b="1" lang="ru-RU" sz="2000" spc="-1" strike="noStrike">
                <a:solidFill>
                  <a:srgbClr val="000000"/>
                </a:solidFill>
                <a:latin typeface="Courier New"/>
              </a:rPr>
              <a:t>в качестве ГОСТ Р и ГОСТ</a:t>
            </a:r>
            <a:r>
              <a:rPr b="0" lang="ru-RU" sz="2000" spc="-1" strike="noStrike">
                <a:solidFill>
                  <a:srgbClr val="000000"/>
                </a:solidFill>
                <a:latin typeface="Courier New"/>
              </a:rPr>
              <a:t>. Такой стандарт представляет собой либо </a:t>
            </a:r>
            <a:r>
              <a:rPr b="1" lang="ru-RU" sz="2000" spc="-1" strike="noStrike">
                <a:solidFill>
                  <a:srgbClr val="000000"/>
                </a:solidFill>
                <a:latin typeface="Courier New"/>
              </a:rPr>
              <a:t>технически аутентичный текст оформленного на русском языке соответствующего нероссийского документа,</a:t>
            </a:r>
            <a:r>
              <a:rPr b="0" lang="ru-RU" sz="2000" spc="-1" strike="noStrike">
                <a:solidFill>
                  <a:srgbClr val="000000"/>
                </a:solidFill>
                <a:latin typeface="Courier New"/>
              </a:rPr>
              <a:t>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зарубежных стандартов до их принятия в РФ</a:t>
            </a:r>
            <a:endParaRPr b="0"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до принятия в РФ</a:t>
            </a:r>
            <a:r>
              <a:rPr b="1" lang="ru-RU" sz="2400" spc="-1" strike="noStrike">
                <a:solidFill>
                  <a:srgbClr val="000000"/>
                </a:solidFill>
                <a:latin typeface="Courier New"/>
              </a:rPr>
              <a:t> международных, региональных, национальных стандартов зарубежных стран, в качестве ГОСТ Р или ГОСТ</a:t>
            </a:r>
            <a:r>
              <a:rPr b="0" lang="ru-RU" sz="2400" spc="-1" strike="noStrike">
                <a:solidFill>
                  <a:srgbClr val="000000"/>
                </a:solidFill>
                <a:latin typeface="Courier New"/>
              </a:rPr>
              <a:t>, </a:t>
            </a:r>
            <a:r>
              <a:rPr b="1" lang="ru-RU" sz="2400" spc="-1" strike="noStrike" u="sng">
                <a:solidFill>
                  <a:srgbClr val="000000"/>
                </a:solidFill>
                <a:uFillTx/>
                <a:latin typeface="Courier New"/>
              </a:rPr>
              <a:t>допускается их применение в качестве ОСТ, СТП, СТО,</a:t>
            </a:r>
            <a:r>
              <a:rPr b="1" lang="ru-RU" sz="2400" spc="-1" strike="noStrike">
                <a:solidFill>
                  <a:srgbClr val="000000"/>
                </a:solidFill>
                <a:latin typeface="Courier New"/>
              </a:rPr>
              <a:t> </a:t>
            </a:r>
            <a:r>
              <a:rPr b="0" lang="ru-RU" sz="2400" spc="-1" strike="noStrike">
                <a:solidFill>
                  <a:srgbClr val="000000"/>
                </a:solidFill>
                <a:latin typeface="Courier New"/>
              </a:rPr>
              <a:t>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Варианты применения МС и стандартов других стран В РФ</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600" spc="-1" strike="noStrike">
              <a:solidFill>
                <a:srgbClr val="000000"/>
              </a:solidFill>
              <a:latin typeface="Times New Roman"/>
            </a:endParaRPr>
          </a:p>
          <a:p>
            <a:pPr lvl="2" marL="111996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инятие государственного стандарта, представляющего</a:t>
            </a:r>
            <a:r>
              <a:rPr b="0" lang="ru-RU" sz="1600" spc="-1" strike="noStrike">
                <a:solidFill>
                  <a:srgbClr val="000000"/>
                </a:solidFill>
                <a:latin typeface="Courier New"/>
              </a:rPr>
              <a:t> </a:t>
            </a:r>
            <a:r>
              <a:rPr b="1" lang="ru-RU" sz="1600" spc="-1" strike="noStrike">
                <a:solidFill>
                  <a:srgbClr val="000000"/>
                </a:solidFill>
                <a:latin typeface="Courier New"/>
              </a:rPr>
              <a:t>аутентичный</a:t>
            </a:r>
            <a:r>
              <a:rPr b="0" lang="ru-RU" sz="1600" spc="-1" strike="noStrike">
                <a:solidFill>
                  <a:srgbClr val="000000"/>
                </a:solidFill>
                <a:latin typeface="Courier New"/>
              </a:rPr>
              <a:t> текст (от греческого </a:t>
            </a:r>
            <a:r>
              <a:rPr b="0" lang="en-US" sz="1600" spc="-1" strike="noStrike">
                <a:solidFill>
                  <a:srgbClr val="000000"/>
                </a:solidFill>
                <a:latin typeface="Courier New"/>
              </a:rPr>
              <a:t>auuthentihos</a:t>
            </a:r>
            <a:r>
              <a:rPr b="0" lang="ru-RU" sz="1600" spc="-1" strike="noStrike">
                <a:solidFill>
                  <a:srgbClr val="000000"/>
                </a:solidFill>
                <a:latin typeface="Courier New"/>
              </a:rPr>
              <a:t>-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a:t>
            </a:r>
            <a:r>
              <a:rPr b="1" lang="ru-RU" sz="1600" spc="-1" strike="noStrike">
                <a:solidFill>
                  <a:srgbClr val="000000"/>
                </a:solidFill>
                <a:latin typeface="Courier New"/>
              </a:rPr>
              <a:t>идентичности</a:t>
            </a:r>
            <a:r>
              <a:rPr b="0" lang="ru-RU" sz="1600" spc="-1" strike="noStrike">
                <a:solidFill>
                  <a:srgbClr val="000000"/>
                </a:solidFill>
                <a:latin typeface="Courier New"/>
              </a:rPr>
              <a:t> текста</a:t>
            </a:r>
            <a:r>
              <a:rPr b="0" i="1" lang="ru-RU" sz="1600" spc="-1" strike="noStrike">
                <a:solidFill>
                  <a:srgbClr val="000000"/>
                </a:solidFill>
                <a:latin typeface="Courier New"/>
              </a:rPr>
              <a:t>) </a:t>
            </a:r>
            <a:r>
              <a:rPr b="0" lang="ru-RU" sz="1600" spc="-1" strike="noStrike">
                <a:solidFill>
                  <a:srgbClr val="000000"/>
                </a:solidFill>
                <a:latin typeface="Courier New"/>
              </a:rPr>
              <a:t>на русском языке соответствующего международного документа. Этот вариант называют </a:t>
            </a:r>
            <a:r>
              <a:rPr b="1" lang="ru-RU" sz="1600" spc="-1" strike="noStrike" u="sng">
                <a:solidFill>
                  <a:srgbClr val="000000"/>
                </a:solidFill>
                <a:uFillTx/>
                <a:latin typeface="Courier New"/>
              </a:rPr>
              <a:t>прямым методом или "методом обложки"</a:t>
            </a:r>
            <a:r>
              <a:rPr b="0" lang="ru-RU" sz="1600" spc="-1" strike="noStrike" u="sng">
                <a:solidFill>
                  <a:srgbClr val="000000"/>
                </a:solidFill>
                <a:uFillTx/>
                <a:latin typeface="Courier New"/>
              </a:rPr>
              <a:t>.</a:t>
            </a:r>
            <a:r>
              <a:rPr b="0" lang="ru-RU" sz="1600" spc="-1" strike="noStrike">
                <a:solidFill>
                  <a:srgbClr val="000000"/>
                </a:solidFill>
                <a:latin typeface="Courier New"/>
              </a:rPr>
              <a:t> </a:t>
            </a:r>
            <a:r>
              <a:rPr b="1" lang="ru-RU" sz="1600" spc="-1" strike="noStrike">
                <a:solidFill>
                  <a:srgbClr val="000000"/>
                </a:solidFill>
                <a:latin typeface="Courier New"/>
              </a:rPr>
              <a:t>При данном методе </a:t>
            </a:r>
            <a:r>
              <a:rPr b="1" lang="ru-RU" sz="1600" spc="-1" strike="noStrike" u="sng">
                <a:solidFill>
                  <a:srgbClr val="000000"/>
                </a:solidFill>
                <a:uFillTx/>
                <a:latin typeface="Courier New"/>
              </a:rPr>
              <a:t>МС используется без какого-либо изменения текста.</a:t>
            </a:r>
            <a:r>
              <a:rPr b="1" lang="ru-RU" sz="1600" spc="-1" strike="noStrike">
                <a:solidFill>
                  <a:srgbClr val="000000"/>
                </a:solidFill>
                <a:latin typeface="Courier New"/>
              </a:rPr>
              <a:t> Изменения касаются только оформления обложки.</a:t>
            </a:r>
            <a:endParaRPr b="0" lang="en-US" sz="1600" spc="-1" strike="noStrike">
              <a:solidFill>
                <a:srgbClr val="000000"/>
              </a:solidFill>
              <a:latin typeface="Times New Roman"/>
            </a:endParaRPr>
          </a:p>
          <a:p>
            <a:pPr marL="335880" indent="-3358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urier New"/>
              </a:rPr>
              <a:t> </a:t>
            </a:r>
            <a:r>
              <a:rPr b="0" i="1" lang="ru-RU" sz="1200" spc="-1" strike="noStrike">
                <a:solidFill>
                  <a:srgbClr val="000000"/>
                </a:solidFill>
                <a:latin typeface="Courier New"/>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рвый этап</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lang="ru-RU" sz="1800" spc="-1" strike="noStrike">
                <a:solidFill>
                  <a:srgbClr val="000000"/>
                </a:solidFill>
                <a:latin typeface="Courier New"/>
              </a:rPr>
              <a:t>Отбор объектов стандартизаци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уществует определенная совокупность объектов и действий с ними: А;Б;В;Г;Д;Ж;И;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бъектом стандартизации становятся повторяющиеся объекты - Б и А, т.е. отдельные типы документов</a:t>
            </a:r>
            <a:endParaRPr b="0" lang="en-US" sz="1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Прямое с дополнениями» применение ГС</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нятие ГС, представляющего аутентичный текст </a:t>
            </a:r>
            <a:r>
              <a:rPr b="1" lang="ru-RU" sz="2400" spc="-1" strike="noStrike" u="sng">
                <a:solidFill>
                  <a:srgbClr val="000000"/>
                </a:solidFill>
                <a:uFillTx/>
                <a:latin typeface="Courier New"/>
              </a:rPr>
              <a:t>на русском языке с дополнительными требованиями</a:t>
            </a:r>
            <a:r>
              <a:rPr b="1" lang="ru-RU" sz="2400" spc="-1" strike="noStrike">
                <a:solidFill>
                  <a:srgbClr val="000000"/>
                </a:solidFill>
                <a:latin typeface="Courier New"/>
              </a:rPr>
              <a:t> ("прямое с дополнениями"). При данном методе содержание ГОСТа отличается от зарубежного аналога.</a:t>
            </a:r>
            <a:r>
              <a:rPr b="0" i="1" lang="ru-RU"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Под обозначением ГОСТ Р в скобках приводится обозначение МС, например:</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ГОСТ Р 50231-92(ИСО 7173-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Частичное введение требований международных стандартов</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Частичное</a:t>
            </a:r>
            <a:r>
              <a:rPr b="0" lang="ru-RU" sz="2000" spc="-1" strike="noStrike">
                <a:solidFill>
                  <a:srgbClr val="000000"/>
                </a:solidFill>
                <a:latin typeface="Courier New"/>
              </a:rPr>
              <a:t> введение требований МС </a:t>
            </a:r>
            <a:r>
              <a:rPr b="1" lang="ru-RU" sz="2000" spc="-1" strike="noStrike" u="sng">
                <a:solidFill>
                  <a:srgbClr val="000000"/>
                </a:solidFill>
                <a:uFillTx/>
                <a:latin typeface="Courier New"/>
              </a:rPr>
              <a:t>"гармонизация".</a:t>
            </a:r>
            <a:r>
              <a:rPr b="0" lang="ru-RU" sz="2000" spc="-1" strike="noStrike">
                <a:solidFill>
                  <a:srgbClr val="000000"/>
                </a:solidFill>
                <a:latin typeface="Courier New"/>
              </a:rPr>
              <a:t> Пример: ГОСТ 25779-90 Игрушки. Общие требования безопасности и методы контроля. Этот ГОСТ соответствует требованиям евростандарта </a:t>
            </a:r>
            <a:r>
              <a:rPr b="0" lang="en-US" sz="2000" spc="-1" strike="noStrike">
                <a:solidFill>
                  <a:srgbClr val="000000"/>
                </a:solidFill>
                <a:latin typeface="Courier New"/>
              </a:rPr>
              <a:t>EN </a:t>
            </a:r>
            <a:r>
              <a:rPr b="0" lang="ru-RU" sz="2000" spc="-1" strike="noStrike">
                <a:solidFill>
                  <a:srgbClr val="000000"/>
                </a:solidFill>
                <a:latin typeface="Courier New"/>
              </a:rPr>
              <a:t>71-8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Принятие  ОСТ, СТП, СТО на основе международных документов до принятия их в качестве ГС.</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4. Стандартизация в области экологии</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5. Кодирование информации о товаре</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 - </a:t>
            </a:r>
            <a:r>
              <a:rPr b="0" i="1" lang="ru-RU" sz="2800" spc="-1" strike="noStrike">
                <a:solidFill>
                  <a:srgbClr val="000000"/>
                </a:solidFill>
                <a:latin typeface="Courier New"/>
              </a:rPr>
              <a:t>это способ познания, исследования явлений природы и общественной жизни, прием или система приемов в какой-либо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ология</a:t>
            </a:r>
            <a:r>
              <a:rPr b="0" lang="ru-RU" sz="2800" spc="-1" strike="noStrike">
                <a:solidFill>
                  <a:srgbClr val="000000"/>
                </a:solidFill>
                <a:latin typeface="Courier New"/>
              </a:rPr>
              <a:t> - </a:t>
            </a:r>
            <a:r>
              <a:rPr b="0" i="1" lang="ru-RU" sz="2800" spc="-1" strike="noStrike">
                <a:solidFill>
                  <a:srgbClr val="000000"/>
                </a:solidFill>
                <a:latin typeface="Courier New"/>
              </a:rPr>
              <a:t>учение о методе, основные принципы или совокупность приемов исследования, применяемых в какой-либо науке.</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Стандартизация базируется на общенаучных и специфических методах.</a:t>
            </a:r>
            <a:r>
              <a:rPr b="0" lang="ru-RU" sz="2400" spc="-1" strike="noStrike">
                <a:solidFill>
                  <a:srgbClr val="000000"/>
                </a:solidFill>
                <a:latin typeface="Courier New"/>
              </a:rPr>
              <a:t> </a:t>
            </a:r>
            <a:br>
              <a:rPr sz="2400"/>
            </a:br>
            <a:endParaRPr b="0" lang="en-US" sz="2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 основным методам стандартизации относятс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лассификац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одирование и каталог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порядочение (систематизация, селек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имплификация, типизация, оптим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нифик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агрегатирование;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пециализация производства;</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ограммно-целевой метод;</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етевое планирова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Система классификации</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лассификация</a:t>
            </a:r>
            <a:r>
              <a:rPr b="0" lang="ru-RU" sz="1800" spc="-1" strike="noStrike">
                <a:solidFill>
                  <a:srgbClr val="000000"/>
                </a:solidFill>
                <a:latin typeface="Courier New"/>
              </a:rPr>
              <a:t> - разделение множеств объектов на подмножества по их сходству и различию в соответствии с принятыми методами.</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 классификации - совокупность методов и правил классификации и ее результат</a:t>
            </a:r>
            <a:r>
              <a:rPr b="0" lang="ru-RU" sz="1800" spc="-1" strike="noStrike">
                <a:solidFill>
                  <a:srgbClr val="000000"/>
                </a:solidFill>
                <a:latin typeface="Courier New"/>
              </a:rPr>
              <a:t>. </a:t>
            </a:r>
            <a:endParaRPr b="0" lang="en-US" sz="1800" spc="-1" strike="noStrike">
              <a:solidFill>
                <a:srgbClr val="000000"/>
              </a:solidFill>
              <a:latin typeface="Times New Roman"/>
            </a:endParaRPr>
          </a:p>
          <a:p>
            <a:pPr marL="322200" indent="-3222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тизация объектов стандартизации заключается</a:t>
            </a:r>
            <a:r>
              <a:rPr b="0" lang="ru-RU" sz="1800" spc="-1" strike="noStrike">
                <a:solidFill>
                  <a:srgbClr val="000000"/>
                </a:solidFill>
                <a:latin typeface="Courier New"/>
              </a:rPr>
              <a:t> </a:t>
            </a:r>
            <a:r>
              <a:rPr b="0" i="1" lang="ru-RU" sz="1800" spc="-1" strike="noStrike" u="sng">
                <a:solidFill>
                  <a:srgbClr val="000000"/>
                </a:solidFill>
                <a:uFillTx/>
                <a:latin typeface="Courier New"/>
              </a:rPr>
              <a:t>в научно обоснованном последовательном классифицировании и ранжировании совокупности конкретных объектов стандартизации</a:t>
            </a:r>
            <a:r>
              <a:rPr b="0" lang="ru-RU" sz="1800" spc="-1" strike="noStrike">
                <a:solidFill>
                  <a:srgbClr val="000000"/>
                </a:solidFill>
                <a:latin typeface="Courier New"/>
              </a:rPr>
              <a:t>.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Единая система классификации и кодирования технико-экономической и социальной информации (ЕСКК)</a:t>
            </a:r>
            <a:endParaRPr b="0" lang="en-US" sz="28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Общие положения, правила разработки и ведения ОКТЭСИ устанавливаются основополагающими документами ЕСКК:</a:t>
            </a:r>
            <a:endParaRPr b="0" lang="en-US" sz="18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19-2000</a:t>
            </a:r>
            <a:r>
              <a:rPr b="0" lang="ru-RU" sz="1600" spc="-1" strike="noStrike">
                <a:solidFill>
                  <a:srgbClr val="000000"/>
                </a:solidFill>
                <a:latin typeface="Courier New"/>
              </a:rPr>
              <a:t>"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0-2000</a:t>
            </a:r>
            <a:r>
              <a:rPr b="0" lang="ru-RU" sz="1600" spc="-1" strike="noStrike">
                <a:solidFill>
                  <a:srgbClr val="000000"/>
                </a:solidFill>
                <a:latin typeface="Courier New"/>
              </a:rPr>
              <a:t> "Порядок разработки общероссийских классификаторов";</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1-2000</a:t>
            </a:r>
            <a:r>
              <a:rPr b="0" lang="ru-RU" sz="1600" spc="-1" strike="noStrike">
                <a:solidFill>
                  <a:srgbClr val="000000"/>
                </a:solidFill>
                <a:latin typeface="Courier New"/>
              </a:rPr>
              <a:t> "Положение о ведении общероссийских классификаторов на базе информационно-вычислительной сети Госкомстата России".</a:t>
            </a:r>
            <a:endParaRPr b="0" lang="en-US" sz="1600" spc="-1" strike="noStrike">
              <a:solidFill>
                <a:srgbClr val="000000"/>
              </a:solidFill>
              <a:latin typeface="Times New Roman"/>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Методы классификации и кодирования</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Методы классификации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иерархический метод классификации</a:t>
            </a:r>
            <a:r>
              <a:rPr b="0" lang="ru-RU" sz="2000" spc="-1" strike="noStrike">
                <a:solidFill>
                  <a:srgbClr val="000000"/>
                </a:solidFill>
                <a:latin typeface="Courier New"/>
              </a:rPr>
              <a:t> - последовательное разделение множеств объектов на подчиненн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фасетный метод классификации</a:t>
            </a:r>
            <a:r>
              <a:rPr b="0" lang="ru-RU" sz="2000" spc="-1" strike="noStrike">
                <a:solidFill>
                  <a:srgbClr val="000000"/>
                </a:solidFill>
                <a:latin typeface="Courier New"/>
              </a:rPr>
              <a:t> - параллельное разделение множеств объектов на независим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urier New"/>
              </a:rPr>
              <a:t>методы кодирования</a:t>
            </a:r>
            <a:r>
              <a:rPr b="1" i="1" lang="ru-RU" sz="2000" spc="-1" strike="noStrike">
                <a:solidFill>
                  <a:srgbClr val="000000"/>
                </a:solidFill>
                <a:latin typeface="Courier New"/>
              </a:rPr>
              <a:t>: последовательный; параллельный; порядковый; серийно-порядковый</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urier New"/>
              </a:rPr>
              <a:t>Основные понятия классификации</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anchor="t">
            <a:normAutofit/>
          </a:bodyPr>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объект классификации</a:t>
            </a:r>
            <a:r>
              <a:rPr b="0" lang="ru-RU" sz="1000" spc="-1" strike="noStrike">
                <a:solidFill>
                  <a:srgbClr val="000000"/>
                </a:solidFill>
                <a:latin typeface="Courier New"/>
              </a:rPr>
              <a:t> - элемент</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классификационного множества;</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признак классификации</a:t>
            </a:r>
            <a:r>
              <a:rPr b="0" lang="ru-RU" sz="1000" spc="-1" strike="noStrike">
                <a:solidFill>
                  <a:srgbClr val="000000"/>
                </a:solidFill>
                <a:latin typeface="Courier New"/>
              </a:rPr>
              <a:t> - свойство или характеристика объекта по которому производится классификация;</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ourier New"/>
              </a:rPr>
              <a:t>значение признака классификации</a:t>
            </a:r>
            <a:r>
              <a:rPr b="0" lang="ru-RU" sz="1000" spc="-1" strike="noStrike">
                <a:solidFill>
                  <a:srgbClr val="000000"/>
                </a:solidFill>
                <a:latin typeface="Courier New"/>
              </a:rPr>
              <a:t> - качественное или количественное выражение признака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классификационная группировка</a:t>
            </a:r>
            <a:r>
              <a:rPr b="0" lang="ru-RU" sz="1000" spc="-1" strike="noStrike">
                <a:solidFill>
                  <a:srgbClr val="000000"/>
                </a:solidFill>
                <a:latin typeface="Courier New"/>
              </a:rPr>
              <a:t> - подмножество объектов, полученное в результате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ступень классификации</a:t>
            </a:r>
            <a:r>
              <a:rPr b="0" lang="ru-RU" sz="1000" spc="-1" strike="noStrike">
                <a:solidFill>
                  <a:srgbClr val="000000"/>
                </a:solidFill>
                <a:latin typeface="Courier New"/>
              </a:rPr>
              <a:t> - этап классификации при иерархическом методе, в результате которого получается совокупность классификационных группировок;</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глубина классификации</a:t>
            </a:r>
            <a:r>
              <a:rPr b="0" lang="ru-RU" sz="1000" spc="-1" strike="noStrike">
                <a:solidFill>
                  <a:srgbClr val="000000"/>
                </a:solidFill>
                <a:latin typeface="Courier New"/>
              </a:rPr>
              <a:t> - число ступеней классификации;</a:t>
            </a:r>
            <a:endParaRPr b="0" lang="en-US" sz="1000" spc="-1" strike="noStrike">
              <a:solidFill>
                <a:srgbClr val="000000"/>
              </a:solidFill>
              <a:latin typeface="Times New Roman"/>
            </a:endParaRPr>
          </a:p>
        </p:txBody>
      </p:sp>
      <p:sp>
        <p:nvSpPr>
          <p:cNvPr id="196"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lvl="2" marL="1131480" indent="-226080">
              <a:lnSpc>
                <a:spcPct val="10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 </a:t>
            </a:r>
            <a:r>
              <a:rPr b="0" lang="ru-RU" sz="1200" spc="-1" strike="noStrike">
                <a:solidFill>
                  <a:srgbClr val="000000"/>
                </a:solidFill>
                <a:latin typeface="Courier New"/>
              </a:rPr>
              <a:t>-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ирование</a:t>
            </a:r>
            <a:r>
              <a:rPr b="0" lang="ru-RU" sz="1200" spc="-1" strike="noStrike">
                <a:solidFill>
                  <a:srgbClr val="000000"/>
                </a:solidFill>
                <a:latin typeface="Courier New"/>
              </a:rPr>
              <a:t>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алфавит кода </a:t>
            </a:r>
            <a:r>
              <a:rPr b="0" lang="ru-RU" sz="1200" spc="-1" strike="noStrike">
                <a:solidFill>
                  <a:srgbClr val="000000"/>
                </a:solidFill>
                <a:latin typeface="Courier New"/>
              </a:rPr>
              <a:t>- систем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знаков, принятых для образования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основание кода</a:t>
            </a:r>
            <a:r>
              <a:rPr b="0" lang="ru-RU" sz="1200" spc="-1" strike="noStrike">
                <a:solidFill>
                  <a:srgbClr val="000000"/>
                </a:solidFill>
                <a:latin typeface="Courier New"/>
              </a:rPr>
              <a:t> - число знаков с алфавите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структура кода</a:t>
            </a:r>
            <a:r>
              <a:rPr b="0" lang="ru-RU" sz="1200" spc="-1" strike="noStrike">
                <a:solidFill>
                  <a:srgbClr val="000000"/>
                </a:solidFill>
                <a:latin typeface="Courier New"/>
              </a:rPr>
              <a:t>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нтрольное число</a:t>
            </a:r>
            <a:r>
              <a:rPr b="0" lang="ru-RU" sz="1200" spc="-1" strike="noStrike">
                <a:solidFill>
                  <a:srgbClr val="000000"/>
                </a:solidFill>
                <a:latin typeface="Courier New"/>
              </a:rPr>
              <a:t> - расчетное число используемое для проверки правильности записи кода;</a:t>
            </a:r>
            <a:endParaRPr b="0" lang="en-US" sz="1200" spc="-1" strike="noStrike">
              <a:solidFill>
                <a:srgbClr val="000000"/>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urier New"/>
              </a:rPr>
              <a:t>Последовательный и параллельный методы кодирования</a:t>
            </a:r>
            <a:r>
              <a:rPr b="0" lang="ru-RU"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последовательный метод кодирования</a:t>
            </a:r>
            <a:r>
              <a:rPr b="0" lang="ru-RU" sz="1800" spc="-1" strike="noStrike">
                <a:solidFill>
                  <a:srgbClr val="000000"/>
                </a:solidFill>
                <a:latin typeface="Courier New"/>
              </a:rPr>
              <a:t>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параллельный метод кодирования</a:t>
            </a:r>
            <a:r>
              <a:rPr b="0" lang="ru-RU" sz="2000" spc="-1" strike="noStrike">
                <a:solidFill>
                  <a:srgbClr val="000000"/>
                </a:solidFill>
                <a:latin typeface="Courier New"/>
              </a:rPr>
              <a:t>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торой  этап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1" lang="ru-RU" sz="1600" spc="-1" strike="noStrike">
                <a:solidFill>
                  <a:srgbClr val="000000"/>
                </a:solidFill>
                <a:latin typeface="Courier New"/>
              </a:rPr>
              <a:t>Моделирование объекта стандартизаци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 </a:t>
            </a:r>
            <a:r>
              <a:rPr b="0" lang="ru-RU" sz="1600" spc="-1" strike="noStrike">
                <a:solidFill>
                  <a:srgbClr val="000000"/>
                </a:solidFill>
                <a:latin typeface="Courier New"/>
              </a:rPr>
              <a:t>(например, объекта Б).</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организаци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документа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формление реквизитов:</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1)форма</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2)содержание … </a:t>
            </a:r>
            <a:r>
              <a:rPr b="0" lang="en-US" sz="1600" spc="-1" strike="noStrike">
                <a:solidFill>
                  <a:srgbClr val="000000"/>
                </a:solidFill>
                <a:latin typeface="Courier New"/>
              </a:rPr>
              <a:t>n, </a:t>
            </a:r>
            <a:r>
              <a:rPr b="0" lang="ru-RU" sz="1600" spc="-1" strike="noStrike">
                <a:solidFill>
                  <a:srgbClr val="000000"/>
                </a:solidFill>
                <a:latin typeface="Courier New"/>
              </a:rPr>
              <a:t>месторасположение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ребования к докумен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уче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использованию … </a:t>
            </a:r>
            <a:r>
              <a:rPr b="0" lang="en-US" sz="1600" spc="-1" strike="noStrike">
                <a:solidFill>
                  <a:srgbClr val="000000"/>
                </a:solidFill>
                <a:latin typeface="Courier New"/>
              </a:rPr>
              <a:t>n</a:t>
            </a:r>
            <a:r>
              <a:rPr b="0" lang="ru-RU" sz="1600" spc="-1" strike="noStrike">
                <a:solidFill>
                  <a:srgbClr val="000000"/>
                </a:solidFill>
                <a:latin typeface="Courier New"/>
              </a:rPr>
              <a:t>, к хранению.</a:t>
            </a:r>
            <a:endParaRPr b="0" lang="en-US" sz="1600" spc="-1" strike="noStrike">
              <a:solidFill>
                <a:srgbClr val="000000"/>
              </a:solidFill>
              <a:latin typeface="Times New Roman"/>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и серийно-порядковый методы кодирования</a:t>
            </a:r>
            <a:endParaRPr b="0" lang="en-US" sz="28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метод кодирования</a:t>
            </a:r>
            <a:r>
              <a:rPr b="0" lang="ru-RU" sz="2800" spc="-1" strike="noStrike">
                <a:solidFill>
                  <a:srgbClr val="000000"/>
                </a:solidFill>
                <a:latin typeface="Courier New"/>
              </a:rPr>
              <a:t> - образование кода из чисел натурального ряда и его присвоение;</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серийно-порядковый метод кодирования</a:t>
            </a:r>
            <a:r>
              <a:rPr b="0" lang="ru-RU" sz="2000" spc="-1" strike="noStrike">
                <a:solidFill>
                  <a:srgbClr val="000000"/>
                </a:solidFill>
                <a:latin typeface="Courier New"/>
              </a:rPr>
              <a:t>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знаки классификационных группировок</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К признакам классификационных группировок относится</a:t>
            </a:r>
            <a:r>
              <a:rPr b="1" lang="ru-RU"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чет социально-экономических изменений;</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ткрытость и общедоступ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автоматизирован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методическое и организационное единство;</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бязательность применения;</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овместимость с другими классификаторам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гармонизация с международными классификаторами и стандарта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Каталогизация</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Каталогизация</a:t>
            </a:r>
            <a:r>
              <a:rPr b="0" lang="ru-RU" sz="2000" spc="-1" strike="noStrike">
                <a:solidFill>
                  <a:srgbClr val="000000"/>
                </a:solidFill>
                <a:latin typeface="Courier New"/>
              </a:rPr>
              <a:t> - одна из форм информационных технологий базирующихся на классификации, кодировании и идентификации.</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Признаками отечественной классификации являются: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фера действия, потребитель (общество, население, организация, гражданин);</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Тип потребностей (материальные, нематериальные, комплексные);</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Характер потребления (личный, семейный, коллективный, общественный);</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словия оказания (возмездные, льготные, безвозмездные).</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Упорядочение объектов стандартизации</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Упорядочение объектов стандартизации - это деятельность систематизации, селекции и симплексации , типизации и оптимизации</a:t>
            </a:r>
            <a:r>
              <a:rPr b="0" lang="ru-RU" sz="2400" spc="-1" strike="noStrike">
                <a:solidFill>
                  <a:srgbClr val="000000"/>
                </a:solidFill>
                <a:latin typeface="Courier New"/>
              </a:rPr>
              <a:t> </a:t>
            </a:r>
            <a:r>
              <a:rPr b="0" i="1" lang="ru-RU" sz="2400" spc="-1" strike="noStrike">
                <a:solidFill>
                  <a:srgbClr val="000000"/>
                </a:solidFill>
                <a:latin typeface="Courier New"/>
              </a:rPr>
              <a:t>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urier New"/>
              </a:rPr>
              <a:t> </a:t>
            </a:r>
            <a:r>
              <a:rPr b="1" i="1" lang="ru-RU" sz="1800" spc="-1" strike="noStrike">
                <a:solidFill>
                  <a:srgbClr val="000000"/>
                </a:solidFill>
                <a:latin typeface="Courier New"/>
              </a:rPr>
              <a:t>Систематизация -</a:t>
            </a:r>
            <a:r>
              <a:rPr b="0" lang="ru-RU" sz="1800" spc="-1" strike="noStrike">
                <a:solidFill>
                  <a:srgbClr val="000000"/>
                </a:solidFill>
                <a:latin typeface="Courier New"/>
              </a:rPr>
              <a:t> расположение объектов стандартизации в определенном порядке и последовательности</a:t>
            </a:r>
            <a:endParaRPr b="0" lang="en-US" sz="18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ОКП представляет собой систематизированный свод кодов и наименований продукции,</a:t>
            </a:r>
            <a:r>
              <a:rPr b="0" lang="ru-RU" sz="1400" spc="-1" strike="noStrike">
                <a:solidFill>
                  <a:srgbClr val="000000"/>
                </a:solidFill>
                <a:latin typeface="Courier New"/>
              </a:rPr>
              <a:t>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400" spc="-1" strike="noStrike">
              <a:solidFill>
                <a:srgbClr val="000000"/>
              </a:solidFill>
              <a:latin typeface="Times New Roman"/>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пример кодового</a:t>
            </a:r>
            <a:r>
              <a:rPr b="0" lang="en-US" sz="1200" spc="-1" strike="noStrike">
                <a:solidFill>
                  <a:srgbClr val="000000"/>
                </a:solidFill>
                <a:latin typeface="Courier New"/>
              </a:rPr>
              <a:t> </a:t>
            </a:r>
            <a:r>
              <a:rPr b="0" lang="ru-RU" sz="1200" spc="-1" strike="noStrike">
                <a:solidFill>
                  <a:srgbClr val="000000"/>
                </a:solidFill>
                <a:latin typeface="Courier New"/>
              </a:rPr>
              <a:t>обозначения в ОКП продукции 54 класса:</a:t>
            </a:r>
            <a:endParaRPr b="0" lang="en-US" sz="12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 (класс)- продукция целлюлозно-бумажной промышленности;</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подкласс) - тетради школьные, обои и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группа) -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 (подгруппа) - тетради и дневники школьные;</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вид) - тетради для письма карандашо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Селекция и </a:t>
            </a:r>
            <a:r>
              <a:rPr b="0" lang="ru-RU" sz="4000" spc="-1" strike="noStrike">
                <a:solidFill>
                  <a:srgbClr val="000000"/>
                </a:solidFill>
                <a:latin typeface="Courier New"/>
              </a:rPr>
              <a:t>симплификация</a:t>
            </a:r>
            <a:r>
              <a:rPr b="0" lang="ru-RU" sz="4000" spc="-1" strike="noStrike" u="sng">
                <a:solidFill>
                  <a:srgbClr val="000000"/>
                </a:solidFill>
                <a:uFillTx/>
                <a:latin typeface="Courier New"/>
              </a:rPr>
              <a:t> </a:t>
            </a:r>
            <a:endParaRPr b="0" lang="en-US" sz="40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urier New"/>
              </a:rPr>
              <a:t>Симплификация</a:t>
            </a:r>
            <a:r>
              <a:rPr b="0" lang="ru-RU" sz="2400" spc="-1" strike="noStrike" u="sng">
                <a:solidFill>
                  <a:srgbClr val="000000"/>
                </a:solidFill>
                <a:uFillTx/>
                <a:latin typeface="Courier New"/>
              </a:rPr>
              <a:t> </a:t>
            </a:r>
            <a:r>
              <a:rPr b="0" lang="ru-RU" sz="2400" spc="-1" strike="noStrike">
                <a:solidFill>
                  <a:srgbClr val="000000"/>
                </a:solidFill>
                <a:latin typeface="Courier New"/>
              </a:rPr>
              <a:t>- </a:t>
            </a:r>
            <a:r>
              <a:rPr b="0" lang="ru-RU" sz="1800" spc="-1" strike="noStrike">
                <a:solidFill>
                  <a:srgbClr val="000000"/>
                </a:solidFill>
                <a:latin typeface="Courier New"/>
              </a:rPr>
              <a:t>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800" spc="-1" strike="noStrike">
              <a:solidFill>
                <a:srgbClr val="000000"/>
              </a:solidFill>
              <a:latin typeface="Times New Roman"/>
            </a:endParaRPr>
          </a:p>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Постоянная симплификация в Фармакопее Минздрава по запрещению к применению устаревших лекарственных средств. </a:t>
            </a:r>
            <a:endParaRPr b="0" lang="en-US" sz="16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rPr>
              <a:t>Селекция</a:t>
            </a:r>
            <a:r>
              <a:rPr b="0" lang="ru-RU" sz="2000" spc="-1" strike="noStrike" u="sng">
                <a:solidFill>
                  <a:srgbClr val="000000"/>
                </a:solidFill>
                <a:uFillTx/>
                <a:latin typeface="Courier New"/>
              </a:rPr>
              <a:t> </a:t>
            </a:r>
            <a:r>
              <a:rPr b="0" lang="ru-RU" sz="2000" spc="-1" strike="noStrike">
                <a:solidFill>
                  <a:srgbClr val="000000"/>
                </a:solidFill>
                <a:latin typeface="Courier New"/>
              </a:rPr>
              <a:t>-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Типизация и </a:t>
            </a:r>
            <a:r>
              <a:rPr b="1" lang="ru-RU" sz="2800" spc="-1" strike="noStrike">
                <a:solidFill>
                  <a:srgbClr val="000000"/>
                </a:solidFill>
                <a:latin typeface="Courier New"/>
              </a:rPr>
              <a:t>оптимизация объектов стандартизации</a:t>
            </a:r>
            <a:r>
              <a:rPr b="0" lang="ru-RU" sz="2400" spc="-1" strike="noStrike" u="sng">
                <a:solidFill>
                  <a:srgbClr val="000000"/>
                </a:solidFill>
                <a:uFillTx/>
                <a:latin typeface="Courier New"/>
              </a:rPr>
              <a:t> </a:t>
            </a:r>
            <a:endParaRPr b="0" lang="en-US" sz="2400" spc="-1" strike="noStrike">
              <a:solidFill>
                <a:srgbClr val="000000"/>
              </a:solidFill>
              <a:latin typeface="Times New Roman"/>
            </a:endParaRPr>
          </a:p>
        </p:txBody>
      </p:sp>
      <p:sp>
        <p:nvSpPr>
          <p:cNvPr id="22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rPr>
              <a:t>Типизация</a:t>
            </a:r>
            <a:r>
              <a:rPr b="0" lang="ru-RU" sz="1800" spc="-1" strike="noStrike">
                <a:solidFill>
                  <a:srgbClr val="000000"/>
                </a:solidFill>
                <a:latin typeface="Courier New"/>
              </a:rPr>
              <a:t>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a:t>
            </a:r>
            <a:r>
              <a:rPr b="0" lang="ru-RU"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00"/>
                </a:solidFill>
                <a:uFillTx/>
                <a:latin typeface="Courier New"/>
              </a:rPr>
              <a:t>Оптимизация объектов стандартизации</a:t>
            </a:r>
            <a:r>
              <a:rPr b="0" lang="ru-RU" sz="1400" spc="-1" strike="noStrike" u="sng">
                <a:solidFill>
                  <a:srgbClr val="000000"/>
                </a:solidFill>
                <a:uFillTx/>
                <a:latin typeface="Courier New"/>
              </a:rPr>
              <a:t> - поиск</a:t>
            </a:r>
            <a:r>
              <a:rPr b="0" lang="ru-RU" sz="1400" spc="-1" strike="noStrike">
                <a:solidFill>
                  <a:srgbClr val="000000"/>
                </a:solidFill>
                <a:latin typeface="Courier New"/>
              </a:rPr>
              <a:t>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urier New"/>
              </a:rPr>
              <a:t>Унификация</a:t>
            </a:r>
            <a:endParaRPr b="0" lang="en-US" sz="4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Унификация (по ГОСТ Р 1.0) это выбор оптимального числа разновидностей продукции, процессов и услуг, значений их параметров и размеров.  </a:t>
            </a:r>
            <a:r>
              <a:rPr b="1" lang="ru-RU" sz="1600" spc="-1" strike="noStrike">
                <a:solidFill>
                  <a:srgbClr val="000000"/>
                </a:solidFill>
                <a:latin typeface="Courier New"/>
              </a:rPr>
              <a:t>Унификация -деятельность по рациональному сокращению числа типов деталей, агрегатов одинакового функционального назначения</a:t>
            </a:r>
            <a:r>
              <a:rPr b="0" lang="ru-RU" sz="1600" spc="-1" strike="noStrike">
                <a:solidFill>
                  <a:srgbClr val="000000"/>
                </a:solidFill>
                <a:latin typeface="Courier New"/>
              </a:rPr>
              <a:t>. </a:t>
            </a:r>
            <a:r>
              <a:rPr b="1" lang="ru-RU" sz="1600" spc="-1" strike="noStrike">
                <a:solidFill>
                  <a:srgbClr val="000000"/>
                </a:solidFill>
                <a:latin typeface="Courier New"/>
              </a:rPr>
              <a:t>Основными направлениями унификации являются:</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параметрических и типоразмерных рядов изделий, машин, оборудования, приборов, узлов, детал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типовых изделий в целях создания унифицированных групп однородной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унифицированных технологических процессов;</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граничение целесообразным минимумом номенклатуры разрешаемых к применению изделий и материал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Агрегатирование</a:t>
            </a:r>
            <a:endParaRPr b="0" lang="en-US" sz="40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 настоящее время на повестке дня переход к производству техники на базе крупных агрегатов - модулей. </a:t>
            </a:r>
            <a:r>
              <a:rPr b="1" lang="ru-RU" sz="1600" spc="-1" strike="noStrike">
                <a:solidFill>
                  <a:srgbClr val="000000"/>
                </a:solidFill>
                <a:latin typeface="Courier New"/>
              </a:rPr>
              <a:t>Модульный принцип распространен в радиоэлектронике и приборостроении</a:t>
            </a:r>
            <a:r>
              <a:rPr b="0" lang="ru-RU" sz="1600" spc="-1" strike="noStrike">
                <a:solidFill>
                  <a:srgbClr val="000000"/>
                </a:solidFill>
                <a:latin typeface="Courier New"/>
              </a:rPr>
              <a:t>, это основной метод создания гибких производственных систем и роботехнических комплекс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6.Стандартизация  услуг</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3200" spc="-1" strike="noStrike">
              <a:solidFill>
                <a:srgbClr val="000000"/>
              </a:solidFill>
              <a:latin typeface="Times New Roman"/>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тий этап</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Оптимизация модели</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В разных организациях варианты исполнения объекта, т.е. документ Б могут быть разными: Б1, Б2,Б3 … Б</a:t>
            </a:r>
            <a:r>
              <a:rPr b="0" lang="en-US" sz="2000" spc="-1" strike="noStrike">
                <a:solidFill>
                  <a:srgbClr val="000000"/>
                </a:solidFill>
                <a:latin typeface="Courier New"/>
              </a:rPr>
              <a:t>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а направления стандартизации услуг</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20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нятие «услуга»</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е словари дают различные толкования понятия «услуг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словаре Ожегова «Услуга - это действие, приносящее пользу или помощь другом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ое определение услуги</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заимосвязь понятий составляющих определение услуги</a:t>
            </a:r>
            <a:endParaRPr b="0" lang="en-US" sz="3200" spc="-1" strike="noStrike">
              <a:solidFill>
                <a:srgbClr val="000000"/>
              </a:solidFill>
              <a:latin typeface="Times New Roman"/>
            </a:endParaRPr>
          </a:p>
        </p:txBody>
      </p:sp>
      <p:sp>
        <p:nvSpPr>
          <p:cNvPr id="2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раждани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еле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щество)</a:t>
            </a:r>
            <a:endParaRPr b="0" lang="en-US" sz="2800" spc="-1" strike="noStrike">
              <a:solidFill>
                <a:srgbClr val="000000"/>
              </a:solidFill>
              <a:latin typeface="Times New Roman"/>
            </a:endParaRPr>
          </a:p>
        </p:txBody>
      </p:sp>
      <p:sp>
        <p:nvSpPr>
          <p:cNvPr id="2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н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нима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требности </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Материальные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щ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ные бума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нь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вижим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живот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 собственность</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Нематериальные</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доровь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разова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ные ценност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a:t>
            </a:r>
            <a:endParaRPr b="0" lang="en-US" sz="2800" spc="-1" strike="noStrike">
              <a:solidFill>
                <a:srgbClr val="000000"/>
              </a:solidFill>
              <a:latin typeface="Times New Roman"/>
            </a:endParaRPr>
          </a:p>
        </p:txBody>
      </p:sp>
      <p:sp>
        <p:nvSpPr>
          <p:cNvPr id="2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бственная деятельность исполнителя</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служи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кетинг,</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ектиро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териальное обеспечение,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неджмент качеств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ановка на производство и др.</a:t>
            </a:r>
            <a:endParaRPr b="0" lang="en-US" sz="3200" spc="-1" strike="noStrike">
              <a:solidFill>
                <a:srgbClr val="000000"/>
              </a:solidFill>
              <a:latin typeface="Times New Roman"/>
            </a:endParaRPr>
          </a:p>
        </p:txBody>
      </p:sp>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 услуги</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мененное состояние объекта услуг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материальных потребносте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нематериальных потребностей.</a:t>
            </a:r>
            <a:endParaRPr b="0" lang="en-US" sz="3200" spc="-1" strike="noStrike">
              <a:solidFill>
                <a:srgbClr val="000000"/>
              </a:solidFill>
              <a:latin typeface="Times New Roman"/>
            </a:endParaRPr>
          </a:p>
        </p:txBody>
      </p:sp>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онодательство в сфере услуг</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3200" spc="-1" strike="noStrike">
              <a:solidFill>
                <a:srgbClr val="000000"/>
              </a:solidFill>
              <a:latin typeface="Times New Roman"/>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ополагающий международный документ по услугам</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3200" spc="-1" strike="noStrike">
              <a:solidFill>
                <a:srgbClr val="000000"/>
              </a:solidFill>
              <a:latin typeface="Times New Roman"/>
            </a:endParaRPr>
          </a:p>
        </p:txBody>
      </p:sp>
      <p:sp>
        <p:nvSpPr>
          <p:cNvPr id="2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бование эргономичности услуг розничной торговли</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фортность и удобство при совершении покупки</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о-гигиенические требования к персоналу;</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ые требования к содержанию помещений и торгового оборудовани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етвертый этап</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На заключительном этапе осуществляется стандартизация - разработка нормативного документа (НД) на базе унифицированной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Сущность механизма стандартизации отражена в стандартизированном определен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a:t>
            </a:r>
            <a:r>
              <a:rPr b="0" lang="en-US" sz="1800" spc="-1" strike="noStrike">
                <a:solidFill>
                  <a:srgbClr val="000000"/>
                </a:solidFill>
                <a:latin typeface="Courier New"/>
              </a:rPr>
              <a:t> </a:t>
            </a:r>
            <a:r>
              <a:rPr b="0" i="1" lang="en-US" sz="1800" spc="-1" strike="noStrike" u="sng">
                <a:solidFill>
                  <a:srgbClr val="000000"/>
                </a:solidFill>
                <a:uFillTx/>
                <a:latin typeface="Courier New"/>
              </a:rPr>
              <a:t>- </a:t>
            </a:r>
            <a:r>
              <a:rPr b="1" lang="en-US" sz="1800" spc="-1" strike="noStrike" u="sng">
                <a:solidFill>
                  <a:srgbClr val="000000"/>
                </a:solidFill>
                <a:uFillTx/>
                <a:latin typeface="Courier New"/>
              </a:rPr>
              <a:t>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Применение  Нормативных Документов является </a:t>
            </a:r>
            <a:r>
              <a:rPr b="1" lang="en-US" sz="1800" spc="-1" strike="noStrike" u="sng">
                <a:solidFill>
                  <a:srgbClr val="000000"/>
                </a:solidFill>
                <a:uFillTx/>
                <a:latin typeface="Courier New"/>
              </a:rPr>
              <a:t>способом упорядочения</a:t>
            </a:r>
            <a:r>
              <a:rPr b="1" lang="en-US" sz="1800" spc="-1" strike="noStrike">
                <a:solidFill>
                  <a:srgbClr val="000000"/>
                </a:solidFill>
                <a:latin typeface="Courier New"/>
              </a:rPr>
              <a:t> в определенной области. Отсюда НД - средство стандартизации.</a:t>
            </a:r>
            <a:endParaRPr b="0" lang="en-US" sz="18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a:t>
            </a:r>
            <a:r>
              <a:rPr b="0" lang="en-US" sz="4400" spc="-1" strike="noStrike">
                <a:solidFill>
                  <a:srgbClr val="000000"/>
                </a:solidFill>
                <a:latin typeface="Times New Roman"/>
              </a:rPr>
              <a:t> </a:t>
            </a:r>
            <a:r>
              <a:rPr b="0" lang="ru-RU" sz="4400" spc="-1" strike="noStrike">
                <a:solidFill>
                  <a:srgbClr val="000000"/>
                </a:solidFill>
                <a:latin typeface="Times New Roman"/>
              </a:rPr>
              <a:t>7. Стандартизация страховой деятельности</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мущественные интересы и страхование</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3200" spc="-1" strike="noStrike">
              <a:solidFill>
                <a:srgbClr val="000000"/>
              </a:solidFill>
              <a:latin typeface="Times New Roman"/>
            </a:endParaRPr>
          </a:p>
        </p:txBody>
      </p:sp>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осударственное регулирование страхования</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3200" spc="-1" strike="noStrike">
              <a:solidFill>
                <a:srgbClr val="000000"/>
              </a:solidFill>
              <a:latin typeface="Times New Roman"/>
            </a:endParaRPr>
          </a:p>
        </p:txBody>
      </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убъекты страхования</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я комп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приятие (организ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 кредито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она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ционеры.</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ъекты страхования</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рид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з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ынок.</a:t>
            </a:r>
            <a:endParaRPr b="0" lang="en-US" sz="32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фера страховых интересов</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Жизнь и здоровь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н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нсия.</a:t>
            </a:r>
            <a:endParaRPr b="0" lang="en-US" sz="3200" spc="-1" strike="noStrike">
              <a:solidFill>
                <a:srgbClr val="000000"/>
              </a:solidFill>
              <a:latin typeface="Times New Roman"/>
            </a:endParaRPr>
          </a:p>
        </p:txBody>
      </p:sp>
      <p:sp>
        <p:nvSpPr>
          <p:cNvPr id="2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ижимое имущество</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редства транспор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ичное 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льскохозяйственного и иного производ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машние и сельскохозяйственные животные.</a:t>
            </a:r>
            <a:endParaRPr b="0" lang="en-US" sz="3200" spc="-1" strike="noStrike">
              <a:solidFill>
                <a:srgbClr val="000000"/>
              </a:solidFill>
              <a:latin typeface="Times New Roman"/>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движимое имущество</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вартира, включая отделк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ача, садовый дом, гара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емельные угодь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ые объекты недвижимого имуще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теллектуальная собственность.</a:t>
            </a:r>
            <a:endParaRPr b="0" lang="en-US" sz="3200" spc="-1" strike="noStrike">
              <a:solidFill>
                <a:srgbClr val="000000"/>
              </a:solidFill>
              <a:latin typeface="Times New Roman"/>
            </a:endParaRPr>
          </a:p>
        </p:txBody>
      </p:sp>
      <p:sp>
        <p:nvSpPr>
          <p:cNvPr id="2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Жизнь и здоровье</a:t>
            </a:r>
            <a:br>
              <a:rPr sz="4000"/>
            </a:b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частный случа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дицин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 во время болезни</a:t>
            </a:r>
            <a:endParaRPr b="0" lang="en-US" sz="3200" spc="-1" strike="noStrike">
              <a:solidFill>
                <a:srgbClr val="000000"/>
              </a:solidFill>
              <a:latin typeface="Times New Roman"/>
            </a:endParaRPr>
          </a:p>
        </p:txBody>
      </p:sp>
      <p:sp>
        <p:nvSpPr>
          <p:cNvPr id="2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нсия </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ая пенс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ое пособие по безработиц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к определенному событи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бъективный закон стандартизации</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Объективный закон стандартизации</a:t>
            </a:r>
            <a:r>
              <a:rPr b="0" lang="ru-RU" sz="1800" spc="-1" strike="noStrike">
                <a:solidFill>
                  <a:srgbClr val="000000"/>
                </a:solidFill>
                <a:latin typeface="Courier New"/>
              </a:rPr>
              <a:t>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обеспечения оптимального функционирования экономики страны и мирового сообщества в  целом</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8. Стандартизация банковской деятельности</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9. Международные стандарты финансовой отчетности предприятий</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нификация финансовой отчетности предприятий диктуетс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обходимостью объективной информации о состоянии дел на предприят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3200" spc="-1" strike="noStrike">
              <a:solidFill>
                <a:srgbClr val="000000"/>
              </a:solidFill>
              <a:latin typeface="Times New Roman"/>
            </a:endParaRPr>
          </a:p>
        </p:txBody>
      </p:sp>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Трехмодульная классификация учетных систем</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ританско-американская модель(Великобритания, США, Нидерланды, Канада, Австрал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тинентальная модель (Германия, Австрия, Франция, Швейцар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жноамериканская модель (Бразилия, Аргентина, Боливия).</a:t>
            </a:r>
            <a:endParaRPr b="0" lang="en-US" sz="32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ые стандарты учета</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3200" spc="-1" strike="noStrike">
              <a:solidFill>
                <a:srgbClr val="000000"/>
              </a:solidFill>
              <a:latin typeface="Times New Roman"/>
            </a:endParaRPr>
          </a:p>
        </p:txBody>
      </p:sp>
      <p:sp>
        <p:nvSpPr>
          <p:cNvPr id="3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редиторы </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32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весторы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3200" spc="-1" strike="noStrike">
              <a:solidFill>
                <a:srgbClr val="000000"/>
              </a:solidFill>
              <a:latin typeface="Times New Roman"/>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МС</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цесс создания международных стандартов учета предшествуют следующие этап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 выбор объекта стандартиза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торой – определение содержания работ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тий – изучение научных разработок и практических реш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етвертый – анализ собранного материала.</a:t>
            </a:r>
            <a:endParaRPr b="0" lang="en-US" sz="28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ы МСФО</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я – определение порядка ведения учета на предприяти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я – отражение движения денежны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я – регламентирование учета инвестиц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я – отражение результата деятельности компании и ее финансового положения.</a:t>
            </a:r>
            <a:endParaRPr b="0" lang="en-US" sz="2400" spc="-1" strike="noStrike">
              <a:solidFill>
                <a:srgbClr val="000000"/>
              </a:solidFill>
              <a:latin typeface="Times New Roman"/>
            </a:endParaRPr>
          </a:p>
        </p:txBody>
      </p:sp>
      <p:sp>
        <p:nvSpPr>
          <p:cNvPr id="3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аскрытие политики бухгалтерского учета МСФО-1</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сное и краткое раскрытие всех важных положений учетной политик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соответствующие предшествующему период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2800" spc="-1" strike="noStrike">
              <a:solidFill>
                <a:srgbClr val="000000"/>
              </a:solidFill>
              <a:latin typeface="Times New Roman"/>
            </a:endParaRPr>
          </a:p>
        </p:txBody>
      </p:sp>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2 – товарно-материальные запасы</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3200" spc="-1" strike="noStrike">
              <a:solidFill>
                <a:srgbClr val="000000"/>
              </a:solidFill>
              <a:latin typeface="Times New Roman"/>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Главный методологический принцип стандартизации</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Главный методологический принцип стандартизации</a:t>
            </a:r>
            <a:r>
              <a:rPr b="0" lang="ru-RU" sz="1800" spc="-1" strike="noStrike">
                <a:solidFill>
                  <a:srgbClr val="000000"/>
                </a:solidFill>
                <a:latin typeface="Courier New"/>
              </a:rPr>
              <a:t>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7 – отчет о движении денежных средств</a:t>
            </a:r>
            <a:endParaRPr b="0" lang="en-US" sz="40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атегории, по которым необходимо отражать движение денежных средст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онн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онная и финансов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и с иностранной валюто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предвиденные стать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нты и дивиденд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лог на прибыл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и продажа дочерни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наличные сделки.</a:t>
            </a:r>
            <a:endParaRPr b="0" lang="en-US" sz="2400" spc="-1" strike="noStrike">
              <a:solidFill>
                <a:srgbClr val="000000"/>
              </a:solidFill>
              <a:latin typeface="Times New Roman"/>
            </a:endParaRPr>
          </a:p>
        </p:txBody>
      </p:sp>
      <p:sp>
        <p:nvSpPr>
          <p:cNvPr id="3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0. Стандартизация и маркетинг </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ектами исследования являютс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вар;</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мкость рынк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рос;</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конкуренции;</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сбыт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гментация рынка.</a:t>
            </a:r>
            <a:endParaRPr b="0" lang="en-US" sz="28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азы жизненного цикла</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недрение – стандартизация отсутствуе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ст продаж – низкая, начальная. Появление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релость – высокая. Стандартизация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ад и уход с рынка – работы по стандартизации не ведутся.</a:t>
            </a:r>
            <a:endParaRPr b="0" lang="en-US" sz="32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Цель стандартизации методов маркетинговых исследований</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3200" spc="-1" strike="noStrike">
              <a:solidFill>
                <a:srgbClr val="000000"/>
              </a:solidFill>
              <a:latin typeface="Times New Roman"/>
            </a:endParaRPr>
          </a:p>
        </p:txBody>
      </p:sp>
      <p:sp>
        <p:nvSpPr>
          <p:cNvPr id="3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новых высокотехнологичных товаров</a:t>
            </a:r>
            <a:endParaRPr b="0" lang="en-US" sz="40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2800" spc="-1" strike="noStrike">
              <a:solidFill>
                <a:srgbClr val="000000"/>
              </a:solidFill>
              <a:latin typeface="Times New Roman"/>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Концепция глобального маркетинга</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32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и приоритет потребителя</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32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оритетная задача маркетинга</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3200" spc="-1" strike="noStrike">
              <a:solidFill>
                <a:srgbClr val="000000"/>
              </a:solidFill>
              <a:latin typeface="Times New Roman"/>
            </a:endParaRPr>
          </a:p>
        </p:txBody>
      </p:sp>
      <p:sp>
        <p:nvSpPr>
          <p:cNvPr id="3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ультинациональный маркетинг</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3200" spc="-1" strike="noStrike">
              <a:solidFill>
                <a:srgbClr val="000000"/>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комплекса маркетинга</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3200" spc="-1" strike="noStrike">
              <a:solidFill>
                <a:srgbClr val="000000"/>
              </a:solidFill>
              <a:latin typeface="Times New Roman"/>
            </a:endParaRPr>
          </a:p>
        </p:txBody>
      </p:sp>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8:07:53Z</dcterms:created>
  <dc:creator>ks</dc:creator>
  <dc:description/>
  <dc:language>en-US</dc:language>
  <cp:lastModifiedBy>LEGION</cp:lastModifiedBy>
  <dcterms:modified xsi:type="dcterms:W3CDTF">2016-01-05T12:47:42Z</dcterms:modified>
  <cp:revision>44</cp:revision>
  <dc:subject/>
  <dc:title>- Стандартизация в различных сферах</dc:title>
</cp:coreProperties>
</file>